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gif" ContentType="image/gif"/>
  <Override PartName="/ppt/media/image6.jpeg" ContentType="image/jpeg"/>
  <Override PartName="/ppt/media/image5.wmf" ContentType="image/x-wmf"/>
  <Override PartName="/ppt/media/image12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4E1C-58AD-4AA0-B98D-D8A8A214B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451C-AA3D-4980-AFEA-516987E7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2CE7-363A-4A60-8090-F1D3DF6D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DC24-C9C5-4FEA-8D0E-19D9017AD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CF4A-0EC6-4C5E-9ECA-8BB248F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9F3C-135B-4BE4-A5F8-5A20DF4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ECD1-752B-4363-85A2-D614E411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482D-7A94-4F25-88F9-FE6610E4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2C96-60A1-4742-8041-7D92951A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F6B3-0368-4901-9BA0-BED0D46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86AE-4F5C-4120-A1D7-2269021F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629C-32D5-4A26-830A-DB7E4CA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F18D9C-7F96-463E-B300-E2B957CC03C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Автомобиль. Дорога. Пешеход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68440" y="1768320"/>
            <a:ext cx="605952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Причины ДТП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ереход через проезжую часть вне установленных для перехода мест:  35-4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Неожиданный выход из-за движущихся или стоящих транспортных средств или других препятствий, мешающих обзору: 25-3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Неподчинение сигналам светофора: 10-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Игры на проезжей части и ходьба по ней при наличии тротуара: -5-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28800" y="260280"/>
            <a:ext cx="25635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ДТ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95460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8360" y="268200"/>
            <a:ext cx="424836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714240" y="0"/>
            <a:ext cx="1021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4240" y="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1" strike="noStrike">
                <a:ln cap="sq"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cap="sq"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1" strike="noStrike">
                <a:ln cap="sq"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cap="sq"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1" strike="noStrike">
                <a:ln cap="sq"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cap="sq"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1" strike="noStrike">
                <a:ln cap="sq"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cap="sq"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0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dur="indefinite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dur="indefinite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dur="indefinite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dur="indefinite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dur="indefinite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" dur="indefinite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14200"/>
            <a:ext cx="7772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Виды дорожных зна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286000"/>
            <a:ext cx="6400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ешеходный пере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14240"/>
            <a:ext cx="6400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ешеходная з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22880" cy="37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Запрет движения на велосипе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5701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Дети на дорог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берите правильные пунк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00200"/>
            <a:ext cx="58438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6072120"/>
            <a:ext cx="2286000" cy="60984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6019920"/>
            <a:ext cx="2286000" cy="60948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600200"/>
            <a:ext cx="5843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Запомнит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3240" y="1285920"/>
            <a:ext cx="454356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efac9"/>
                </a:solidFill>
                <a:latin typeface="Calibri"/>
                <a:ea typeface="Microsoft YaHei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перебегайте улиц и дорог перед близко  движущимся                             транспортом – это очень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пасно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ля жизни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и одно даже самое важное дело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 стоит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ашей жизни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!!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6133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17859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Дорожная Академ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571500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Aharoni"/>
              </a:rPr>
              <a:t>«Дисциплина на улице – залог безопасности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28960" y="3357720"/>
            <a:ext cx="115236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857840" y="3000240"/>
            <a:ext cx="16081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Памятка при переходе доро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0760" y="2286000"/>
            <a:ext cx="371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Умей не только видеть , но и слышать ули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Обращай внимание на сигналы автомобиля (указатели поворота, заднего хода, тормоз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Контролируй свои дви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поворот головы для осмотра дорог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остановку для пропуска автомоби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1219320"/>
            <a:ext cx="1440" cy="56386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ревни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195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распространенн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419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быстр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562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мелкомасштабный вид транспорт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752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ВТОМОБИ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ДУШ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ЕЛЕЗНОДОРО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5400000">
            <a:off x="1795320" y="3921120"/>
            <a:ext cx="5638680" cy="23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457200"/>
            <a:ext cx="8534520" cy="8380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Расставьте в нужном поряд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3 L 0.01667 0.20232 E">
                                      <p:cBhvr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78 E">
                                      <p:cBhvr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3.33333E-006 -0.39329 E">
                                      <p:cBhvr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 E">
                                      <p:cBhvr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357280" y="457200"/>
            <a:ext cx="43578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428760" y="3143160"/>
            <a:ext cx="2357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етр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760" y="61657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739960" cy="25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03640" y="549360"/>
            <a:ext cx="2611440" cy="252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66400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156360" y="549360"/>
            <a:ext cx="2608200" cy="2525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296040" y="314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95800" y="6165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012000" y="3933720"/>
            <a:ext cx="283212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581800" y="61657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3143160"/>
            <a:ext cx="72723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вая  пово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42884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Ежегодно в мире в результате ДТП погибают и получают ранени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 млн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человек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о данным Всемирного банка глобальные экономические потери составляют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0 млрд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олларов в год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семирная организация здравоохранения  свидетельствует, что на долю ДТП приходитс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% смертельных исходов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от всех несчастных случаев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ХХ веке автомобиль стал причиной смерти около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30 млн. человек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России потери, связанные  с ДТП в несколько раз превышают ущерб от  железнодорожных катастроф, пожаров и других видов несчастных случаев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сштаб ДТП угрожает национальной безопасности.              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Calibri"/>
                <a:ea typeface="Microsoft YaHei"/>
              </a:rPr>
              <a:t>                          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  <a:ea typeface="Microsoft YaHe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  <a:ea typeface="Microsoft YaHei"/>
              </a:rPr>
              <a:t>Из доклада рабочей группы  Президиум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  <a:ea typeface="Microsoft YaHe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  <a:ea typeface="Microsoft YaHei"/>
              </a:rPr>
              <a:t>Государственного совета Российской  федерац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fac9"/>
                </a:solidFill>
                <a:latin typeface="Calibri"/>
                <a:ea typeface="Microsoft YaHei"/>
              </a:rPr>
              <a:t>Постановление правительства </a:t>
            </a:r>
            <a:br>
              <a:rPr sz="4400"/>
            </a:br>
            <a:r>
              <a:rPr b="1" lang="ru-RU" sz="4400" spc="-1" strike="noStrike">
                <a:solidFill>
                  <a:srgbClr val="fefac9"/>
                </a:solidFill>
                <a:latin typeface="Calibri"/>
                <a:ea typeface="Microsoft YaHei"/>
              </a:rPr>
              <a:t>Российской Федераци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icrosoft YaHei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icrosoft YaHei"/>
              </a:rPr>
              <a:t>Утвердит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icrosoft YaHei"/>
              </a:rPr>
              <a:t>федеральную  целевую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icrosoft YaHei"/>
              </a:rPr>
              <a:t>      программу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«Повышение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дорожного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в 2006-2012 года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1960" y="54608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efac9"/>
                </a:solidFill>
                <a:latin typeface="Calibri"/>
              </a:rPr>
              <a:t>№</a:t>
            </a:r>
            <a:r>
              <a:rPr b="1" lang="en-US" sz="1800" spc="-1" strike="noStrike">
                <a:solidFill>
                  <a:srgbClr val="fefac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efac9"/>
                </a:solidFill>
                <a:latin typeface="Calibri"/>
              </a:rPr>
              <a:t>100 </a:t>
            </a:r>
            <a:r>
              <a:rPr b="1" lang="ru-RU" sz="1800" spc="-1" strike="noStrike">
                <a:solidFill>
                  <a:srgbClr val="fefac9"/>
                </a:solidFill>
                <a:latin typeface="Calibri"/>
              </a:rPr>
              <a:t>от 20 февраля 2006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233388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Прогноз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По данным Всемирной организации здравоохранения , если срочно не предпринять мер , то в ближайшие годы уровень смертности на дорогах  мир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  <a:ea typeface="Microsoft YaHei"/>
              </a:rPr>
              <a:t>вырастет на 60%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И этим Земля будет обязана странам с низким и средним уровнем доходов населения, где из-за плохих дорог , старых автомобилей и отсутствия водительской культуры рост смертности может достичь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  <a:ea typeface="Microsoft YaHei"/>
              </a:rPr>
              <a:t>83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По итогам прошлого 2008 года в     России произошл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  <a:ea typeface="Microsoft YaHei"/>
              </a:rPr>
              <a:t>23 851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авария 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в которых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  <a:ea typeface="Microsoft YaHei"/>
              </a:rPr>
              <a:t>погибло 1116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и ран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  <a:ea typeface="Microsoft YaHei"/>
              </a:rPr>
              <a:t>24 707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школьников и дошколя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На пешеходов составл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  <a:ea typeface="Microsoft YaHei"/>
              </a:rPr>
              <a:t>560 тыс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протоколов за нарушение ПД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Получается, что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  <a:ea typeface="Microsoft YaHei"/>
              </a:rPr>
              <a:t>каждый третий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  <a:ea typeface="Microsoft YaHei"/>
              </a:rPr>
              <a:t> россиянин, включая младенцев и стариков, нарушил ПД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7:29Z</dcterms:created>
  <dc:creator>Света</dc:creator>
  <dc:description/>
  <dc:language>en-US</dc:language>
  <cp:lastModifiedBy/>
  <dcterms:modified xsi:type="dcterms:W3CDTF">2014-09-29T17:08:22Z</dcterms:modified>
  <cp:revision>20</cp:revision>
  <dc:subject/>
  <dc:title>Слайд 1</dc:title>
</cp:coreProperties>
</file>