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5842-5C23-41F2-BAD6-D283FD92BED2}" type="slidenum">
              <a:rPr b="0" i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B44D-6C56-4610-B63D-49554BCA9DD4}" type="slidenum">
              <a:rPr b="0" i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7C5A-4F33-4C4E-9DBD-0EE17AF9C403}" type="slidenum">
              <a:rPr b="0" i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FAE2-6415-4769-ADE1-086BB6CB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7935-2394-494A-ACC9-05089824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7DB72-B3E3-4BC3-9713-2E23F0A2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3D8A-B9E1-4E7D-8752-BA6F377A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C7F0-E84B-4158-95E6-D36B7174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3EF3-1493-4BB1-B297-64BDFC74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59F2-ECED-4F65-81D0-8BB359B0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A0E6-DBB0-43CD-9352-6CDCAAD0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101D-E65D-4B35-825E-15160087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7BE8-70CD-478E-B1D3-D93195D9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CA81-0D78-4604-A044-2AC8298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2975E-3EF8-4EA9-9719-F749B914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D641-E45F-4BC0-9A33-5DCC537C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E752-DD76-471C-A166-39C442A1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5A36-05EB-483F-B88C-A81938CD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5530-1CC0-46C4-8EC4-48E6C450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614A-49A3-4623-B921-29C506BA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08CC-3F03-4D2B-B47C-E7B533BD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BBBE-8E4B-4816-91A8-EB52D83A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AE59-8399-49C9-8FAE-722221EE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725C-F89F-45DC-8501-C88BBB31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77C0-72CB-467D-95DF-355CDF96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9409-65F9-4D9F-A255-564F493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0DC2-0D84-4B5D-B2B7-78B584DE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ADE6-A83A-476D-91B1-153472CF8E1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E23F-FBB4-43C3-AABB-110A9F23C5F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Сатирические и юмористические рассказы Антона Павловича Чехова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«Толстый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тонкий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http://www.rusk.ru/images/2006/3126.jpg"/>
          <p:cNvPicPr/>
          <p:nvPr/>
        </p:nvPicPr>
        <p:blipFill>
          <a:blip r:embed="rId1"/>
          <a:stretch/>
        </p:blipFill>
        <p:spPr>
          <a:xfrm>
            <a:off x="457200" y="1523880"/>
            <a:ext cx="4267080" cy="51055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Терминологическая работа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…………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        – вымышленное имя, которое иногда    принимают писатели, артис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…………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     –  вид комического,  изображение героев и ситуаций с целью вызвать смех у читател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……………      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д комического, направленный на уничтожающее осмеяние пороков человека и об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39280" y="1599840"/>
            <a:ext cx="457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Терминологическая работа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ЕВДОНИМ – вымышленное имя, которое иногда  принимают писатели, артис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ЮМОР  –  вид комического,  изображение героев и ситуаций с целью вызвать смех у читател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АТИРА – вид комического, направленный на уничтожающее осмеяние пороков человека и обще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049120" y="1599840"/>
            <a:ext cx="1218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709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68" name="Содержимое 4" descr="иллюстрация.jpg"/>
          <p:cNvPicPr/>
          <p:nvPr/>
        </p:nvPicPr>
        <p:blipFill>
          <a:blip r:embed="rId1"/>
          <a:stretch/>
        </p:blipFill>
        <p:spPr>
          <a:xfrm>
            <a:off x="304920" y="304920"/>
            <a:ext cx="5257800" cy="6324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6248160" y="1447560"/>
            <a:ext cx="2438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ТОЛСТ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НКИЙ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Домашнее задание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720"/>
            <a:ext cx="40384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готовиться к инсценировке рассказа «Толстый и тонкий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выбор (письменно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яснить смысл эпиграф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исать историю встречи школьных друзей от имени толстог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ить «толстые» вопросы к рассказ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вот так"/>
          <p:cNvPicPr/>
          <p:nvPr/>
        </p:nvPicPr>
        <p:blipFill>
          <a:blip r:embed="rId1"/>
          <a:stretch/>
        </p:blipFill>
        <p:spPr>
          <a:xfrm>
            <a:off x="4343400" y="1600200"/>
            <a:ext cx="4648320" cy="4800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Сатирические и юмористические рассказы Антона Павловича Чехова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Шуточка»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УТКА -   1. То, что говорят или делают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рад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развлечения,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рад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возбуждения смеха, веселья,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забава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шалость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2.То, что говорят или делают не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всерьез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к чему нельзя относиться серьезн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6" descr="http://www.rusk.ru/images/2006/3126.jpg"/>
          <p:cNvPicPr/>
          <p:nvPr/>
        </p:nvPicPr>
        <p:blipFill>
          <a:blip r:embed="rId1"/>
          <a:stretch/>
        </p:blipFill>
        <p:spPr>
          <a:xfrm>
            <a:off x="457200" y="1523880"/>
            <a:ext cx="4267080" cy="51055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Особенности рассказов А.П.Чехова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Простое, предельно краткое заглав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Диалоговое построение рассказ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Неповторимость речи героев как основа их неповторим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Краткость и лаконизм: простые предложения, практическое отсутствие эпитетов, обилие глаголов. Лаконичность (лаконизм), краткость, сжатость, немногословность — изложение мыслей с использованием наименьшего количества слов. Корень слова произошёл от названия Лаконии — региона Древней Греции, в котором находится город Спар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"Говорящая деталь" заменяет подробное опис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Иллюстрация к рассказу «Шуточка»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4" descr="187970668"/>
          <p:cNvPicPr/>
          <p:nvPr/>
        </p:nvPicPr>
        <p:blipFill>
          <a:blip r:embed="rId1"/>
          <a:stretch/>
        </p:blipFill>
        <p:spPr>
          <a:xfrm>
            <a:off x="2411280" y="1628640"/>
            <a:ext cx="3948120" cy="5229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Иллюстрация к рассказу «Шуточка»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137252686"/>
          <p:cNvPicPr/>
          <p:nvPr/>
        </p:nvPicPr>
        <p:blipFill>
          <a:blip r:embed="rId1"/>
          <a:stretch/>
        </p:blipFill>
        <p:spPr>
          <a:xfrm>
            <a:off x="1609560" y="1576440"/>
            <a:ext cx="4562640" cy="5281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Какие нравственные уроки мы извлечем из рассказа?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6600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льзя  играть с чужою душо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6600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должен бережно и ответственно относиться к чувствам другого человека, не играть и не шутить и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8200" y="-1955160"/>
            <a:ext cx="745344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456840"/>
            <a:ext cx="3733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аждом из юмористических рассказов Антона Павловича я слышу тихий и глубокий вздох чистого, истинно человеческого сердца, безнадежный вздох сострадания к людям, которые не умеют уважать свое человеческое достоинство.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А.М.Горький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374" descr="chehov_15"/>
          <p:cNvPicPr/>
          <p:nvPr/>
        </p:nvPicPr>
        <p:blipFill>
          <a:blip r:embed="rId1"/>
          <a:stretch/>
        </p:blipFill>
        <p:spPr>
          <a:xfrm>
            <a:off x="4191120" y="228600"/>
            <a:ext cx="4647960" cy="6248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О смех, великое дело!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Чехов среди артистов МХАТа"/>
          <p:cNvPicPr/>
          <p:nvPr/>
        </p:nvPicPr>
        <p:blipFill>
          <a:blip r:embed="rId1"/>
          <a:stretch/>
        </p:blipFill>
        <p:spPr>
          <a:xfrm>
            <a:off x="685800" y="1600200"/>
            <a:ext cx="8077320" cy="51055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Цели урока: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Продолжать формировать умение анализа эпического произвед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На основе анализа рассказа выяснить особенности чеховского комизм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ить видеть красоту, меткость чеховского слов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Развивать критическое мышлен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Стимулировать желание проявлять инициативу, высказать свое мн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.Развивать культуры речи, читательских умений; обучение отбирать материал текста для работы над темой; развитие навыков сравнительного анализа; развитие навыков групповой работы, развитие монологической речи.                                                                 6.Воспитание интереса к предмету, воспитание нравствен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277720" y="1599840"/>
            <a:ext cx="838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5:53:36Z</dcterms:created>
  <dc:creator>Инна</dc:creator>
  <dc:description/>
  <dc:language>en-US</dc:language>
  <cp:lastModifiedBy>USER</cp:lastModifiedBy>
  <dcterms:modified xsi:type="dcterms:W3CDTF">2015-02-05T19:42:24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