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1.jpeg" ContentType="image/jpeg"/>
  <Override PartName="/ppt/media/image52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49.jpeg" ContentType="image/jpeg"/>
  <Override PartName="/ppt/media/image2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57.png" ContentType="image/png"/>
  <Override PartName="/ppt/media/image10.png" ContentType="image/png"/>
  <Override PartName="/ppt/media/image36.jpeg" ContentType="image/jpeg"/>
  <Override PartName="/ppt/media/image18.png" ContentType="image/png"/>
  <Override PartName="/ppt/media/image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9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31.jpeg" ContentType="image/jpeg"/>
  <Override PartName="/ppt/media/image40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8.png" ContentType="image/png"/>
  <Override PartName="/ppt/media/image45.jpeg" ContentType="image/jpeg"/>
  <Override PartName="/ppt/media/image58.png" ContentType="image/png"/>
  <Override PartName="/ppt/media/image46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4333-A9E1-4F4C-B87D-E0B9EC221D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9AFB-7015-47A4-90C2-6B7AB2850F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8062-A58B-4792-8F1D-31D81C2492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4002-E6B4-490E-AB74-DC6FC8091C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769F-96C2-4153-9EA8-2D709B56FB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D184-4208-4822-965A-FF3E9B4784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E2F1-67C6-48C5-8E26-31C47464BB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7E49-C0F7-408F-980C-D14F31D9F9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A09A-2601-463E-9F33-6CF32703C0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9B9B-6BC5-49CC-97D5-D6477EA27D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1538-34AC-461D-BF84-64B165FEEF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457-B463-4C26-9D35-A843C158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8ED-AFF8-4728-8512-1720F686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AAE-69FE-4FF0-855A-9B1AE54B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E2A-B6D6-4B1B-8A15-F04C3405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621-7AA5-4BF7-8C9C-1325A465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1C7-6E89-4B2F-9CEC-6B8F55F1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C7B-82C3-4083-B4AE-4D94E88E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7D2-B0C5-4703-AA6A-2AC81DC0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FAB-8F9E-471D-A0EC-25ED706C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D0E-3B10-4863-B3D3-001D3091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AF4-5A5A-4C3F-BBA7-3C63F8A3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ECD-5D9A-4630-8382-4EF33842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AF98-968A-4733-A0FF-29FE0B0B74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ященное Писание, сколько его не перечитывай, чем более им проникаешься, тем более все освещается и расширяется. Вот единственная Книга в мире: в ней все есть!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1" descr=""/>
          <p:cNvPicPr/>
          <p:nvPr/>
        </p:nvPicPr>
        <p:blipFill>
          <a:blip r:embed="rId1"/>
          <a:stretch/>
        </p:blipFill>
        <p:spPr>
          <a:xfrm>
            <a:off x="4730760" y="3060720"/>
            <a:ext cx="3365640" cy="324792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378000"/>
            <a:ext cx="3762360" cy="1353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851040" y="1916280"/>
            <a:ext cx="3409920" cy="4386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4"/>
          <a:stretch/>
        </p:blipFill>
        <p:spPr>
          <a:xfrm>
            <a:off x="4719600" y="433440"/>
            <a:ext cx="3362400" cy="2589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5"/>
          <a:stretch/>
        </p:blipFill>
        <p:spPr>
          <a:xfrm>
            <a:off x="4719600" y="339840"/>
            <a:ext cx="4071960" cy="61783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"/>
          <p:cNvPicPr/>
          <p:nvPr/>
        </p:nvPicPr>
        <p:blipFill>
          <a:blip r:embed="rId6"/>
          <a:stretch/>
        </p:blipFill>
        <p:spPr>
          <a:xfrm>
            <a:off x="157320" y="5985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120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жный отрывок помечается своеобразным «адресом»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нига – глава – стих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Мк. 17: 1-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​ Я – Господь Бог твой, да не будет у тебя других богов, кроме Ме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​ Не делай себе кумира и никакого изобра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​ Не произноси имени Господа Бога твоего напрас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​ Помни день покоя: 6 дней трудись, 7 – день покоя – посвящен Бо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​ Почитай отца и м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​ Не убива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​ Не прелюбодейству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.​ Не крад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.​ Не произноси ложного свидетельства на ближнего твое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.​ Не желай жены ближнего твоего, не желай дома ближнего твоего, ни раба его, ни рабыни его, ни вола его, ничего, что у ближнего твое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ЫЛАТЫЕ СЛОВА ИЗ ВЕТХОГО ЗАВЕТА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ть от плоти (Быт. 2:23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дать как манну небесную (Исх. 16;3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зни египетск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ево познания (добра и зл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вилонское столпотвор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олотой теле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я собирать камни (Еккл. 3:1-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ЫЛАТЫЕ СЛОВА ИЗ НОВОГО ЗАВЕТА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пта вдовиц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рыть талант в землю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уда, иудин поцелуй, тридцать сребреник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сти свой крес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лудный сы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хлебом единым жив челове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уга двух госпо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ать во главе уг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есарю – кесарево, а Богу – бож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пить чашу страда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мыть ру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ас вопиющего в пусты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от мира 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рновый венец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1" descr=""/>
          <p:cNvPicPr/>
          <p:nvPr/>
        </p:nvPicPr>
        <p:blipFill>
          <a:blip r:embed="rId1"/>
          <a:stretch/>
        </p:blipFill>
        <p:spPr>
          <a:xfrm>
            <a:off x="749160" y="396720"/>
            <a:ext cx="3614760" cy="138276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2" descr=""/>
          <p:cNvPicPr/>
          <p:nvPr/>
        </p:nvPicPr>
        <p:blipFill>
          <a:blip r:embed="rId2"/>
          <a:stretch/>
        </p:blipFill>
        <p:spPr>
          <a:xfrm>
            <a:off x="4614840" y="4170240"/>
            <a:ext cx="3614760" cy="2217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755640" y="1889280"/>
            <a:ext cx="3619440" cy="443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4"/>
          <a:stretch/>
        </p:blipFill>
        <p:spPr>
          <a:xfrm>
            <a:off x="4680000" y="384120"/>
            <a:ext cx="3419280" cy="38307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"/>
          <p:cNvPicPr/>
          <p:nvPr/>
        </p:nvPicPr>
        <p:blipFill>
          <a:blip r:embed="rId5"/>
          <a:stretch/>
        </p:blipFill>
        <p:spPr>
          <a:xfrm>
            <a:off x="32400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060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Прямоугольник 2" descr=""/>
          <p:cNvPicPr/>
          <p:nvPr/>
        </p:nvPicPr>
        <p:blipFill>
          <a:blip r:embed="rId1"/>
          <a:stretch/>
        </p:blipFill>
        <p:spPr>
          <a:xfrm>
            <a:off x="689040" y="469800"/>
            <a:ext cx="3863880" cy="249876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4632480" y="444600"/>
            <a:ext cx="2682720" cy="43956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5" descr=""/>
          <p:cNvPicPr/>
          <p:nvPr/>
        </p:nvPicPr>
        <p:blipFill>
          <a:blip r:embed="rId3"/>
          <a:stretch/>
        </p:blipFill>
        <p:spPr>
          <a:xfrm>
            <a:off x="4614840" y="1359000"/>
            <a:ext cx="3286080" cy="43956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6" descr=""/>
          <p:cNvPicPr/>
          <p:nvPr/>
        </p:nvPicPr>
        <p:blipFill>
          <a:blip r:embed="rId4"/>
          <a:stretch/>
        </p:blipFill>
        <p:spPr>
          <a:xfrm>
            <a:off x="4602240" y="2066760"/>
            <a:ext cx="3578040" cy="74304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7" descr=""/>
          <p:cNvPicPr/>
          <p:nvPr/>
        </p:nvPicPr>
        <p:blipFill>
          <a:blip r:embed="rId5"/>
          <a:stretch/>
        </p:blipFill>
        <p:spPr>
          <a:xfrm>
            <a:off x="4584600" y="3181320"/>
            <a:ext cx="3840120" cy="105588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8" descr=""/>
          <p:cNvPicPr/>
          <p:nvPr/>
        </p:nvPicPr>
        <p:blipFill>
          <a:blip r:embed="rId6"/>
          <a:stretch/>
        </p:blipFill>
        <p:spPr>
          <a:xfrm>
            <a:off x="4584600" y="4516560"/>
            <a:ext cx="2859120" cy="43956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9" descr=""/>
          <p:cNvPicPr/>
          <p:nvPr/>
        </p:nvPicPr>
        <p:blipFill>
          <a:blip r:embed="rId7"/>
          <a:stretch/>
        </p:blipFill>
        <p:spPr>
          <a:xfrm>
            <a:off x="4602240" y="5200560"/>
            <a:ext cx="3676680" cy="4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8"/>
          <a:stretch/>
        </p:blipFill>
        <p:spPr>
          <a:xfrm>
            <a:off x="1152360" y="2773440"/>
            <a:ext cx="3035520" cy="35971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1" descr=""/>
          <p:cNvPicPr/>
          <p:nvPr/>
        </p:nvPicPr>
        <p:blipFill>
          <a:blip r:embed="rId9"/>
          <a:stretch/>
        </p:blipFill>
        <p:spPr>
          <a:xfrm>
            <a:off x="450720" y="60609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3465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ует документ, в котором содержатся «подсказки» о том, как правильно себя вести в жизни, «бессмертная, книга святая, книга вечной истины, вечной  жизн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Г.Бел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3833640" cy="28720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695160" y="603360"/>
            <a:ext cx="3784680" cy="159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628560" y="2560680"/>
            <a:ext cx="3864240" cy="330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4664160" y="530280"/>
            <a:ext cx="3468600" cy="2541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"/>
          <p:cNvPicPr/>
          <p:nvPr/>
        </p:nvPicPr>
        <p:blipFill>
          <a:blip r:embed="rId5"/>
          <a:stretch/>
        </p:blipFill>
        <p:spPr>
          <a:xfrm>
            <a:off x="598320" y="6093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22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396720"/>
            <a:ext cx="4114800" cy="12369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4700520" y="639720"/>
            <a:ext cx="3552840" cy="12016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4" descr=""/>
          <p:cNvPicPr/>
          <p:nvPr/>
        </p:nvPicPr>
        <p:blipFill>
          <a:blip r:embed="rId3"/>
          <a:stretch/>
        </p:blipFill>
        <p:spPr>
          <a:xfrm>
            <a:off x="4956120" y="1798560"/>
            <a:ext cx="3316320" cy="5112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5" descr=""/>
          <p:cNvPicPr/>
          <p:nvPr/>
        </p:nvPicPr>
        <p:blipFill>
          <a:blip r:embed="rId4"/>
          <a:stretch/>
        </p:blipFill>
        <p:spPr>
          <a:xfrm>
            <a:off x="4956120" y="2371680"/>
            <a:ext cx="20908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6" descr=""/>
          <p:cNvPicPr/>
          <p:nvPr/>
        </p:nvPicPr>
        <p:blipFill>
          <a:blip r:embed="rId5"/>
          <a:stretch/>
        </p:blipFill>
        <p:spPr>
          <a:xfrm>
            <a:off x="4992840" y="2901960"/>
            <a:ext cx="1541160" cy="3286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7" descr=""/>
          <p:cNvPicPr/>
          <p:nvPr/>
        </p:nvPicPr>
        <p:blipFill>
          <a:blip r:embed="rId6"/>
          <a:stretch/>
        </p:blipFill>
        <p:spPr>
          <a:xfrm>
            <a:off x="4992840" y="3425760"/>
            <a:ext cx="3054240" cy="38412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8" descr=""/>
          <p:cNvPicPr/>
          <p:nvPr/>
        </p:nvPicPr>
        <p:blipFill>
          <a:blip r:embed="rId7"/>
          <a:stretch/>
        </p:blipFill>
        <p:spPr>
          <a:xfrm>
            <a:off x="4853160" y="311040"/>
            <a:ext cx="3468600" cy="47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8"/>
          <a:stretch/>
        </p:blipFill>
        <p:spPr>
          <a:xfrm>
            <a:off x="390600" y="2048040"/>
            <a:ext cx="3913200" cy="462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9"/>
          <a:stretch/>
        </p:blipFill>
        <p:spPr>
          <a:xfrm>
            <a:off x="4840200" y="3968640"/>
            <a:ext cx="3273480" cy="2455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10"/>
          <a:stretch/>
        </p:blipFill>
        <p:spPr>
          <a:xfrm>
            <a:off x="539640" y="5811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73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2" descr=""/>
          <p:cNvPicPr/>
          <p:nvPr/>
        </p:nvPicPr>
        <p:blipFill>
          <a:blip r:embed="rId1"/>
          <a:stretch/>
        </p:blipFill>
        <p:spPr>
          <a:xfrm>
            <a:off x="4780080" y="3206880"/>
            <a:ext cx="3468600" cy="4442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" descr=""/>
          <p:cNvPicPr/>
          <p:nvPr/>
        </p:nvPicPr>
        <p:blipFill>
          <a:blip r:embed="rId2"/>
          <a:stretch/>
        </p:blipFill>
        <p:spPr>
          <a:xfrm>
            <a:off x="749160" y="487440"/>
            <a:ext cx="3640320" cy="4395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3"/>
          <a:stretch/>
        </p:blipFill>
        <p:spPr>
          <a:xfrm>
            <a:off x="749160" y="1103400"/>
            <a:ext cx="2043360" cy="3348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6" descr=""/>
          <p:cNvPicPr/>
          <p:nvPr/>
        </p:nvPicPr>
        <p:blipFill>
          <a:blip r:embed="rId4"/>
          <a:stretch/>
        </p:blipFill>
        <p:spPr>
          <a:xfrm>
            <a:off x="1616040" y="1805040"/>
            <a:ext cx="1481040" cy="26172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7" descr=""/>
          <p:cNvPicPr/>
          <p:nvPr/>
        </p:nvPicPr>
        <p:blipFill>
          <a:blip r:embed="rId5"/>
          <a:stretch/>
        </p:blipFill>
        <p:spPr>
          <a:xfrm>
            <a:off x="5924520" y="476280"/>
            <a:ext cx="162252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8" descr=""/>
          <p:cNvPicPr/>
          <p:nvPr/>
        </p:nvPicPr>
        <p:blipFill>
          <a:blip r:embed="rId6"/>
          <a:stretch/>
        </p:blipFill>
        <p:spPr>
          <a:xfrm>
            <a:off x="4767120" y="5919840"/>
            <a:ext cx="4042080" cy="38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7"/>
          <a:stretch/>
        </p:blipFill>
        <p:spPr>
          <a:xfrm>
            <a:off x="420840" y="2414520"/>
            <a:ext cx="3968640" cy="2889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8"/>
          <a:stretch/>
        </p:blipFill>
        <p:spPr>
          <a:xfrm>
            <a:off x="4863960" y="781200"/>
            <a:ext cx="3451320" cy="236988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9" descr=""/>
          <p:cNvPicPr/>
          <p:nvPr/>
        </p:nvPicPr>
        <p:blipFill>
          <a:blip r:embed="rId9"/>
          <a:stretch/>
        </p:blipFill>
        <p:spPr>
          <a:xfrm>
            <a:off x="1238400" y="5516640"/>
            <a:ext cx="2657160" cy="384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10"/>
          <a:stretch/>
        </p:blipFill>
        <p:spPr>
          <a:xfrm>
            <a:off x="5425920" y="3687840"/>
            <a:ext cx="2322720" cy="22431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"/>
          <p:cNvPicPr/>
          <p:nvPr/>
        </p:nvPicPr>
        <p:blipFill>
          <a:blip r:embed="rId11"/>
          <a:stretch/>
        </p:blipFill>
        <p:spPr>
          <a:xfrm>
            <a:off x="409680" y="5997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88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1"/>
          <a:stretch/>
        </p:blipFill>
        <p:spPr>
          <a:xfrm>
            <a:off x="4559400" y="4791240"/>
            <a:ext cx="3792600" cy="15303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" descr=""/>
          <p:cNvPicPr/>
          <p:nvPr/>
        </p:nvPicPr>
        <p:blipFill>
          <a:blip r:embed="rId2"/>
          <a:stretch/>
        </p:blipFill>
        <p:spPr>
          <a:xfrm>
            <a:off x="633240" y="353880"/>
            <a:ext cx="3951360" cy="21272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3" descr=""/>
          <p:cNvPicPr/>
          <p:nvPr/>
        </p:nvPicPr>
        <p:blipFill>
          <a:blip r:embed="rId3"/>
          <a:stretch/>
        </p:blipFill>
        <p:spPr>
          <a:xfrm>
            <a:off x="749160" y="2560680"/>
            <a:ext cx="3560760" cy="121284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4" descr=""/>
          <p:cNvPicPr/>
          <p:nvPr/>
        </p:nvPicPr>
        <p:blipFill>
          <a:blip r:embed="rId4"/>
          <a:stretch/>
        </p:blipFill>
        <p:spPr>
          <a:xfrm>
            <a:off x="762120" y="3718080"/>
            <a:ext cx="3547800" cy="8841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5" descr=""/>
          <p:cNvPicPr/>
          <p:nvPr/>
        </p:nvPicPr>
        <p:blipFill>
          <a:blip r:embed="rId5"/>
          <a:stretch/>
        </p:blipFill>
        <p:spPr>
          <a:xfrm>
            <a:off x="762120" y="4700520"/>
            <a:ext cx="3736800" cy="1621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6"/>
          <a:stretch/>
        </p:blipFill>
        <p:spPr>
          <a:xfrm>
            <a:off x="4643280" y="447840"/>
            <a:ext cx="3494160" cy="40543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"/>
          <p:cNvPicPr/>
          <p:nvPr/>
        </p:nvPicPr>
        <p:blipFill>
          <a:blip r:embed="rId7"/>
          <a:stretch/>
        </p:blipFill>
        <p:spPr>
          <a:xfrm>
            <a:off x="669960" y="60102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8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1" descr=""/>
          <p:cNvPicPr/>
          <p:nvPr/>
        </p:nvPicPr>
        <p:blipFill>
          <a:blip r:embed="rId1"/>
          <a:stretch/>
        </p:blipFill>
        <p:spPr>
          <a:xfrm>
            <a:off x="4591080" y="334800"/>
            <a:ext cx="3619440" cy="210348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2" descr=""/>
          <p:cNvPicPr/>
          <p:nvPr/>
        </p:nvPicPr>
        <p:blipFill>
          <a:blip r:embed="rId2"/>
          <a:stretch/>
        </p:blipFill>
        <p:spPr>
          <a:xfrm>
            <a:off x="822240" y="433440"/>
            <a:ext cx="3541680" cy="12492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3" descr=""/>
          <p:cNvPicPr/>
          <p:nvPr/>
        </p:nvPicPr>
        <p:blipFill>
          <a:blip r:embed="rId3"/>
          <a:stretch/>
        </p:blipFill>
        <p:spPr>
          <a:xfrm>
            <a:off x="822240" y="4968720"/>
            <a:ext cx="3541680" cy="12560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4" descr=""/>
          <p:cNvPicPr/>
          <p:nvPr/>
        </p:nvPicPr>
        <p:blipFill>
          <a:blip r:embed="rId4"/>
          <a:stretch/>
        </p:blipFill>
        <p:spPr>
          <a:xfrm>
            <a:off x="4638600" y="4359240"/>
            <a:ext cx="3567240" cy="2005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789440" y="2449440"/>
            <a:ext cx="3274920" cy="1938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6"/>
          <a:stretch/>
        </p:blipFill>
        <p:spPr>
          <a:xfrm>
            <a:off x="826920" y="1949400"/>
            <a:ext cx="3463920" cy="2914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"/>
          <p:cNvPicPr/>
          <p:nvPr/>
        </p:nvPicPr>
        <p:blipFill>
          <a:blip r:embed="rId7"/>
          <a:stretch/>
        </p:blipFill>
        <p:spPr>
          <a:xfrm>
            <a:off x="522360" y="5913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749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2" descr=""/>
          <p:cNvPicPr/>
          <p:nvPr/>
        </p:nvPicPr>
        <p:blipFill>
          <a:blip r:embed="rId1"/>
          <a:stretch/>
        </p:blipFill>
        <p:spPr>
          <a:xfrm>
            <a:off x="749160" y="433440"/>
            <a:ext cx="3614760" cy="1249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712800" y="1805040"/>
            <a:ext cx="3665520" cy="2529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4724280" y="463680"/>
            <a:ext cx="3395880" cy="28098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5" descr=""/>
          <p:cNvPicPr/>
          <p:nvPr/>
        </p:nvPicPr>
        <p:blipFill>
          <a:blip r:embed="rId4"/>
          <a:stretch/>
        </p:blipFill>
        <p:spPr>
          <a:xfrm>
            <a:off x="749160" y="4608360"/>
            <a:ext cx="3614760" cy="162108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6" descr=""/>
          <p:cNvPicPr/>
          <p:nvPr/>
        </p:nvPicPr>
        <p:blipFill>
          <a:blip r:embed="rId5"/>
          <a:stretch/>
        </p:blipFill>
        <p:spPr>
          <a:xfrm>
            <a:off x="4572000" y="3230640"/>
            <a:ext cx="3754440" cy="3133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"/>
          <p:cNvPicPr/>
          <p:nvPr/>
        </p:nvPicPr>
        <p:blipFill>
          <a:blip r:embed="rId6"/>
          <a:stretch/>
        </p:blipFill>
        <p:spPr>
          <a:xfrm>
            <a:off x="324000" y="59180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44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2" descr=""/>
          <p:cNvPicPr/>
          <p:nvPr/>
        </p:nvPicPr>
        <p:blipFill>
          <a:blip r:embed="rId1"/>
          <a:stretch/>
        </p:blipFill>
        <p:spPr>
          <a:xfrm>
            <a:off x="4608360" y="457200"/>
            <a:ext cx="3657600" cy="104760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3" descr=""/>
          <p:cNvPicPr/>
          <p:nvPr/>
        </p:nvPicPr>
        <p:blipFill>
          <a:blip r:embed="rId2"/>
          <a:stretch/>
        </p:blipFill>
        <p:spPr>
          <a:xfrm>
            <a:off x="768240" y="378000"/>
            <a:ext cx="3754440" cy="1663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4687920" y="1476360"/>
            <a:ext cx="3511440" cy="4894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809640" y="2101680"/>
            <a:ext cx="3483000" cy="43578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5"/>
          <a:stretch/>
        </p:blipFill>
        <p:spPr>
          <a:xfrm>
            <a:off x="32400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807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08:19:52Z</dcterms:created>
  <dc:creator>user</dc:creator>
  <dc:description/>
  <dc:language>en-US</dc:language>
  <cp:lastModifiedBy>USER</cp:lastModifiedBy>
  <dcterms:modified xsi:type="dcterms:W3CDTF">2015-11-15T13:11:02Z</dcterms:modified>
  <cp:revision>96</cp:revision>
  <dc:subject/>
  <dc:title>Презентация PowerPoint</dc:title>
</cp:coreProperties>
</file>