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B2F9-FDE6-4896-BFA4-AC63EC97B4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FE00-6DF9-45F7-9408-07AD06FE9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691-B61D-46FF-8F7F-FBC8AB3D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B03-59D8-4957-9C75-361FBA10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E108C-C1FF-4712-8F27-1772D74F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0DB9A-76BF-46D6-9DB9-0C87C04B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F3186-325B-4E66-98AE-C1C7282E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4A109-BA16-410F-AEC5-BF12178E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1F74D-37DE-4982-8CE5-7D34FBD8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12984-2BAF-4479-A7CA-5EDF9D36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DEB76-FA21-4E80-8A19-2DD3F0B7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D2155-E78E-4D44-8AF1-37EEF08F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414CE-0ABA-416C-B8B2-BAF33375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6698A-0578-4041-BCDB-D716EA6C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66C-9888-45E8-8BDA-788A46FA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9074C-0079-4B71-8FE9-55ADCED9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2C034-1552-4BDC-A567-39A8B3B7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E6F84-B8E1-42BE-9019-DE89810B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1772C-7516-48F6-A10B-AE749F75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1A1EE-E225-471B-BDB1-16ED5CB0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513F7-1EC2-4356-B7D0-B4FCD4B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8945F-8097-4C28-9F37-EF9EFAA1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C9F39-098B-4F41-837A-D008195B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0904B-DB13-47F6-8986-5D51C40D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EAF70-E43A-483E-98E8-BF319F97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031-1ED1-447D-A0AE-A67A6A6B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223B1-FF16-4E13-89AE-37D8B203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3C7B8-3A9A-40B4-9AD2-52D4C614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67AD3-BA9B-4570-A5DA-3F6ADEB3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2E2F4-6C11-492C-A92A-822034D6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FEC29-07AE-444F-B20C-DA671895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9042B-CD5C-400A-BEC3-F9EB4ED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EB529-E0A1-40AE-9A20-B653A3EA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A2ADC-7583-485D-AA86-ECF8520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42149-2A57-4A63-8DF0-A97AE5A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C5D48-FDF0-4F05-BB35-50263790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177-DE01-4E83-8DD7-C8D903FC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AC04A-5A2F-4ECE-843A-326FB45D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9AEB2-183B-44A6-B1DA-2046DDBD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31B5A-CF13-4FF9-9358-720AA842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6ED87-9DF4-4F34-9B9D-B97580B5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BA927-D25D-4823-989D-E6684A3B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0409C-15DC-4EEE-995B-E006C418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6F797-1148-499C-B856-A2F8DB07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31507-FAC5-4DE8-BFE6-9AC4BB3B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602B7-B190-4213-9FA0-F2C5E6BB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A9A92-2F5A-4DD2-B3A4-149E2E03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1542-9278-4A2E-B02B-86250EB7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88B11-502E-445B-BDA1-42662467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CCE2A-D5C0-44E6-AF5B-38305BD9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6264B-8B26-48AF-B8A9-47A63EBB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B2A29-B8B7-4F0E-94C2-7CA5FA97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003CB-CCBE-4550-9B8A-89B6E365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4E64-0718-4A95-9267-61E12639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A9CD-4D90-40C7-BA4A-DB7A49E7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3A5A-0834-4439-BBDE-3027A34F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6F45-B96D-4852-BE91-9B601450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92BA-A368-44BF-8CF7-80119382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FDA-FEF8-4F8E-B5C5-433E1B7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E17D-C6FA-41FF-827B-0EA30FF9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9862-66A1-446F-99B2-9E303FAE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43EB-5311-41C3-882B-F77D396D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5287-7E11-4555-BBE4-79FFDD3C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D493-FC19-48AF-932B-CC98AAF4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13DF-DFEA-4A67-AEF9-3E73A834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F556-B9B6-42FC-8696-0892C484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287B-8AA2-42D2-98CB-086598EB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598F-95C1-43E7-9742-1F85798A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1568-E7FF-4030-8B61-9E6CBD6E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67C-9A33-4B81-B147-E95D8E53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B061-233B-4B78-A196-61A5423A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65BB8-96DE-40EC-AB33-EF4B87B1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7204-0D1B-415E-9992-E86E84BD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7B58-A740-42F3-95BF-5CB03AD0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FF6E-2B3F-4FCB-8F78-6FD895CC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CC695-C885-47EF-8156-EBEFEF81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D1761-1DD1-442A-87E9-F59CE81A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9CCC-E710-48B7-BAE0-565E78B0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A084-0F0E-4B42-B93E-AB032A77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ED40-9D76-424F-831C-E22FFF96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5AA-34E2-4943-8303-4237987F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1E30-BD72-40E3-8C5A-1DB7966E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D1A37-5749-44A5-86CF-A1E55FD4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535A2-4924-41E6-8836-5114E50F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DA73-49EA-4E55-9C8D-17C0B506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FA64-5659-445C-95FB-BC82A76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2AF3-4335-4BF3-896D-B1646234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8F9F-C9E1-49F6-AB88-3FCDCA9D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15E5-7C4B-4D46-82E8-553F45C6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1853E-3459-4226-A1F1-A19F7D02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9C8A-0970-49D5-A090-2514604C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C9A-FC83-4151-A256-FADA433C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DF1B9-05CC-4452-9473-D3B07621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C9631-3B53-4D82-B4F2-F993104D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7569-D915-4BD9-A043-A8A74C68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BBBF-E7DE-4996-93A0-390233CD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31B46-A105-49A6-A697-7013FED5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0541-C4AE-4647-9FBC-1B3F84F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5B2DF-6379-4625-959A-F9D238E6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05BBC-C53E-46B7-963C-C1FCBB1F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76182-83AD-462F-BCF6-A683046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73486-22BC-4B38-A0D1-529AD18D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D7E-F81C-4763-811E-26D849A7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C0DD4-9E42-4424-8DBD-4F7B2912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7CC3F-DF14-44F0-A536-6683A062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CC044-81B2-48B7-8E1F-A3A6E1FF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AD2B6-AFB8-439B-853F-C9852580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7041A-4815-40B0-B2E2-37F1EB29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1F52-48B7-4E5F-83BD-20099C5D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7E9E0-EB59-47EB-80B3-E2B7E48D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4B99D-4B53-4830-A17B-A19E310B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8DFAA-8117-42F2-8A87-B8E1D95F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DBDA-3840-4309-BFA7-A7D82C9D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FC2-0801-417D-B261-DB131C67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0D06A-2AAD-4D3E-9919-D9BDE3DA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2170B-FAC2-4DCE-92CC-541C564F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24607-3494-4C1B-A3F3-90D1CE36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E408A-008A-49E0-B47A-77DCD39F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E514B-5A92-4F8F-8C80-3320A017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EAFDB-675E-4323-9C01-03DD48E7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A1AE8-4456-497F-A681-4A30A516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5A166-3F44-4BBB-8B30-2F7DC968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C4D68-B946-426F-90A8-FAA74136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3D327-6D2A-4905-BD7E-CBBE91B9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0FA-917C-441A-BC60-6B18E5D6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B1801-0357-41C6-9796-2908B86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4FE78-1B30-4ECE-8A62-E2E50DC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B9528-9673-4845-9345-70FB50D7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73644-9C9C-4FD8-BF55-1DFAD1F9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2E922-2634-4F63-8DD9-92F35748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DCCDB-5D4C-41A5-AB5C-6C2FFCE9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4A0B1-3DEA-468C-A9CE-DFD9630B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80AD3-1773-4EC4-9B8A-77FADD0D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E095D-1A19-442D-9831-B5AE7AAF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9DE7C-7940-46CB-9F8A-4D03F169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786-0C58-448A-B300-23F8FE09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9F548-0767-4455-81FA-486583A8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B2A97-8DD8-42A3-AAEA-83DE1B80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12E3D-2CD3-4291-A870-D66B5DD6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6E9AB-7816-4654-82E0-08332611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A9D21-6127-4116-8C33-5EDCF3A2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07BE5-B8B4-4D18-A57C-0FBC6A0B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7CB7D-7B98-4FBD-80C6-EFC19399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82DDA-3B12-4E2B-BC68-97C931A6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684E9-65E9-45BF-91CF-93FA14B9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78A7C-BDD5-41E0-86CC-57176A26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6289-7AE6-436C-B773-4A57A5C44181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4EA1-719F-4E1A-AB68-08A5B36A6A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F14C-74D2-4EFA-996E-5B68716411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4515-B9E8-45E1-A17C-F91EE185C6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6929-F3CA-4265-B5AC-E29857B858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F571-0D18-492F-9ADA-BF77944928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B93D-CE8E-476B-A5DA-37B8D3F3C1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42DB-8748-4226-B848-73F2FC5002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FADC-D18C-4C71-AC3D-3831F3C709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7D96-F900-43A2-A078-DF353614DA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ECBB-67BE-4EE0-994C-CE0EBB3C10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DA4B-1300-471A-B8D3-1A1EC67363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7040" y="8377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Verdana"/>
              </a:rPr>
              <a:t>Деепричастие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Verdana"/>
              </a:rPr>
              <a:t>как часть реч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TextBox 3"/>
          <p:cNvSpPr/>
          <p:nvPr/>
        </p:nvSpPr>
        <p:spPr>
          <a:xfrm>
            <a:off x="1828800" y="3352680"/>
            <a:ext cx="5562720" cy="91692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 презентации – учитель русского языка и литературы МОУ «Киверичская СОШ»  Мантрова Лили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685800" y="22860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Грамматические 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деепричас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3"/>
          <p:cNvSpPr/>
          <p:nvPr/>
        </p:nvSpPr>
        <p:spPr>
          <a:xfrm>
            <a:off x="914400" y="1752480"/>
            <a:ext cx="3352680" cy="1143000"/>
          </a:xfrm>
          <a:prstGeom prst="downArrowCallout">
            <a:avLst>
              <a:gd name="adj1" fmla="val 73337"/>
              <a:gd name="adj2" fmla="val 73331"/>
              <a:gd name="adj3" fmla="val 16667"/>
              <a:gd name="adj4" fmla="val 66667"/>
            </a:avLst>
          </a:prstGeom>
          <a:solidFill>
            <a:srgbClr val="e3e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4"/>
          <p:cNvSpPr/>
          <p:nvPr/>
        </p:nvSpPr>
        <p:spPr>
          <a:xfrm>
            <a:off x="5181480" y="1828800"/>
            <a:ext cx="3353040" cy="1143000"/>
          </a:xfrm>
          <a:prstGeom prst="downArrowCallout">
            <a:avLst>
              <a:gd name="adj1" fmla="val 73345"/>
              <a:gd name="adj2" fmla="val 73339"/>
              <a:gd name="adj3" fmla="val 16667"/>
              <a:gd name="adj4" fmla="val 66667"/>
            </a:avLst>
          </a:prstGeom>
          <a:solidFill>
            <a:srgbClr val="e3e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990720" y="2057400"/>
            <a:ext cx="3047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Глаго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5486400" y="2057400"/>
            <a:ext cx="2895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аре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457200" y="3048120"/>
            <a:ext cx="3886200" cy="257436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Образуются только от глаголов (улыбаться – улыбаясь, глядеть - гляд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ид (выглядывая – несов.в.; выглянув – сов.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меют зависимые слова (падать на землю – падая на зем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5410080" y="35812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4800600" y="3048120"/>
            <a:ext cx="3886200" cy="287172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еизменяе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интаксическая 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ассказывает улыбая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ассказывает с улыб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>
            <a:off x="6781680" y="4572000"/>
            <a:ext cx="1219320" cy="0"/>
          </a:xfrm>
          <a:prstGeom prst="line">
            <a:avLst/>
          </a:prstGeom>
          <a:ln w="255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6"/>
          <p:cNvSpPr/>
          <p:nvPr/>
        </p:nvSpPr>
        <p:spPr>
          <a:xfrm>
            <a:off x="6705720" y="541008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6555240" y="37339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6479280" y="4572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1"/>
          <p:cNvSpPr/>
          <p:nvPr/>
        </p:nvSpPr>
        <p:spPr>
          <a:xfrm flipV="1">
            <a:off x="6019920" y="4114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2"/>
          <p:cNvSpPr/>
          <p:nvPr/>
        </p:nvSpPr>
        <p:spPr>
          <a:xfrm flipV="1">
            <a:off x="594360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3"/>
          <p:cNvSpPr/>
          <p:nvPr/>
        </p:nvSpPr>
        <p:spPr>
          <a:xfrm>
            <a:off x="5943600" y="4876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4"/>
          <p:cNvSpPr/>
          <p:nvPr/>
        </p:nvSpPr>
        <p:spPr>
          <a:xfrm>
            <a:off x="601992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5"/>
          <p:cNvSpPr/>
          <p:nvPr/>
        </p:nvSpPr>
        <p:spPr>
          <a:xfrm>
            <a:off x="73915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6"/>
          <p:cNvSpPr/>
          <p:nvPr/>
        </p:nvSpPr>
        <p:spPr>
          <a:xfrm>
            <a:off x="74674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еепричастие – самостоятельная часть речи, которая обозначает добавочное действие при основном, выраженном глагол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еепричастие не изменяется. Деепричастия бывают совершенного и несовершенного ви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 предложении деепричастие является обстоятельством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Verdana"/>
              </a:rPr>
              <a:t>Употребление деепричастий </a:t>
            </a:r>
            <a:br>
              <a:rPr sz="2800"/>
            </a:br>
            <a:r>
              <a:rPr b="1" i="1" lang="ru-RU" sz="2800" spc="-1" strike="noStrike">
                <a:solidFill>
                  <a:srgbClr val="c0504d"/>
                </a:solidFill>
                <a:latin typeface="Verdana"/>
              </a:rPr>
              <a:t>в реч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22093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http://files.school-collection.edu.ru/dlrstore/ac8a5789-5662-4d0f-82f0-1600858f72c6/%5BRUS7_141%5D_%5BQS_360%5D.htm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228600" y="50292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рочитайте отрывок из сказки-были М.М.Пришв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Какими средствами языка создается яркое, образное описание сросшихся деревье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152280" y="4724280"/>
            <a:ext cx="6858000" cy="137376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Verdana"/>
              </a:rPr>
              <a:t>Функция деепричастия в речи – дописывать, дорисовывать основное дей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9" descr="&amp;Scy;&amp;rcy;&amp;ocy;&amp;scy;&amp;shcy;&amp;icy;&amp;iecy;&amp;scy;&amp;yacy; &amp;dcy;&amp;iecy;&amp;rcy;&amp;iecy;&amp;vcy;&amp;softcy;&amp;yacy;. &amp;CHcy;&amp;iecy;&amp;mcy; &amp;ocy;&amp;tcy;&amp;lcy;&amp;icy;&amp;chcy;&amp;acy;&amp;iecy;&amp;tcy;&amp;scy;&amp;yacy; &amp;fcy;&amp;ocy;&amp;tcy;&amp;ocy;&amp;gcy;&amp;rcy;&amp;acy;&amp;fcy;&amp;icy;&amp;yacy; &amp;ocy;&amp;tcy; &amp;ocy;&amp;pcy;&amp;icy;&amp;scy;&amp;acy;&amp;ncy;&amp;icy;&amp;yacy; &amp;iecy;&amp;lcy;&amp;icy; &amp;icy; &amp;scy;&amp;ocy;&amp;scy;&amp;ncy;&amp;ycy;, &amp;dcy;&amp;acy;&amp;ncy;&amp;ncy;&amp;ocy;&amp;gcy;&amp;ocy; &amp;Pcy;&amp;rcy;&amp;icy;&amp;shcy;&amp;vcy;&amp;icy;&amp;ncy;&amp;ycy;&amp;mcy;?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095880" y="1600200"/>
            <a:ext cx="2324160" cy="2705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1522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Торопиться, торопит, торопясь, торопивший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ождаться, дождавшись, дождавшийся, дожидает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ередвинуть, передвинувшийся, передвигающийся, передвига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149840" y="304920"/>
            <a:ext cx="533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Verdana"/>
              </a:rPr>
              <a:t>Среди данных слов найд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Verdana"/>
              </a:rPr>
              <a:t>деепричас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5334120" y="1752480"/>
            <a:ext cx="18288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"/>
          <p:cNvSpPr/>
          <p:nvPr/>
        </p:nvSpPr>
        <p:spPr>
          <a:xfrm>
            <a:off x="3200400" y="3200400"/>
            <a:ext cx="25909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8"/>
          <p:cNvSpPr/>
          <p:nvPr/>
        </p:nvSpPr>
        <p:spPr>
          <a:xfrm>
            <a:off x="4876920" y="5105520"/>
            <a:ext cx="23619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Verdana"/>
              </a:rPr>
              <a:t>Выпишите предложения, в которых употреблены деепричаст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Мать сидела, откинувшись в кресл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рат склонил голову и писал что-т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Я открыл окно и залюбовался вид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ыйдя из дома, человек направился к машин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Человек, вышедший из дома, направился к машин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ерега, окружающие озеро, густо поросли камыш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Разложив игры, дети сели в кружок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Пятно 1 8"/>
          <p:cNvSpPr/>
          <p:nvPr/>
        </p:nvSpPr>
        <p:spPr>
          <a:xfrm rot="19837200">
            <a:off x="223560" y="1200240"/>
            <a:ext cx="611280" cy="76176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ятно 1 9"/>
          <p:cNvSpPr/>
          <p:nvPr/>
        </p:nvSpPr>
        <p:spPr>
          <a:xfrm>
            <a:off x="152280" y="2666880"/>
            <a:ext cx="685800" cy="6858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ятно 1 10"/>
          <p:cNvSpPr/>
          <p:nvPr/>
        </p:nvSpPr>
        <p:spPr>
          <a:xfrm>
            <a:off x="228600" y="5181480"/>
            <a:ext cx="609480" cy="7621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Verdana"/>
              </a:rPr>
              <a:t>Найдите лишнее деепричаст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33160" y="11426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хлынув, растаяв, колдуя, загоревшис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хмурившись, встречаясь, приняв, заблудившис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уляя, взлетая, касаясь, посвяти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Прямая соединительная линия 6"/>
          <p:cNvSpPr/>
          <p:nvPr/>
        </p:nvSpPr>
        <p:spPr>
          <a:xfrm>
            <a:off x="5867280" y="1828800"/>
            <a:ext cx="1676520" cy="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8"/>
          <p:cNvSpPr/>
          <p:nvPr/>
        </p:nvSpPr>
        <p:spPr>
          <a:xfrm>
            <a:off x="1219320" y="5410080"/>
            <a:ext cx="1981080" cy="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ая соединительная линия 9"/>
          <p:cNvSpPr/>
          <p:nvPr/>
        </p:nvSpPr>
        <p:spPr>
          <a:xfrm>
            <a:off x="5029200" y="3276720"/>
            <a:ext cx="2362320" cy="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Собери пословицы, укажи в них деепричаст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зная брод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Трус хвастает уход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замочив рук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Зная сердце зме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оворить не думая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то не подумав говорит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развязав мешок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16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не умоешь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не узнаешь, что в н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тот вечно вздор тверди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что стрелять не целяс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не суйся в во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а смелый – возвращаяс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entury Schoolbook"/>
              </a:rPr>
              <a:t>бог лишил её но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-0.00538 0.13333 E">
                                      <p:cBhvr>
                                        <p:cTn id="182" dur="2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3 -0.00555 L -0.00086 0.31945 E">
                                      <p:cBhvr>
                                        <p:cTn id="184" dur="2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00382 0.19445 E">
                                      <p:cBhvr>
                                        <p:cTn id="186" dur="2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0.00191 0.06389 E">
                                      <p:cBhvr>
                                        <p:cTn id="188" dur="2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L -0.00104 -0.25555 E">
                                      <p:cBhvr>
                                        <p:cTn id="190" dur="2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00191 -0.25278 E">
                                      <p:cBhvr>
                                        <p:cTn id="192" dur="2000" fill="hold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022E-016 L -0.00052 -0.19444 E">
                                      <p:cBhvr>
                                        <p:cTn id="194" dur="2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Можно ли так говорить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9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Идя из школы, пошел дожд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озвращаясь домой, меня застала гроз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ключив телевизор, он показывал футбольный матч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ткрывая книгу, из неё выпал лист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609480" y="4876920"/>
            <a:ext cx="6477120" cy="119124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Основное действие и добавочное действие относятся к одному и тому же 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Итоги урока</a:t>
            </a:r>
            <a:r>
              <a:rPr b="1" lang="ru-RU" sz="4400" spc="-1" strike="noStrike">
                <a:solidFill>
                  <a:srgbClr val="c0504d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Самостоятельная часть речи, обозначающая добавочное действие, называется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Деепричастие отвечает на вопросы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Деепричастие образуется от … с помощью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Деепричастие имеет признаки … и признаки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Подчеркивается в предложении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Вопрос к деепричастию задается от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Использованная литература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14400" y="16761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огданова Г.А. Уроки русского языка: 7 кл.: Кн. для учителя: Из опыта работы. – М.: Просвещение, 1987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орашова Н.Г. Поурочное планирование по русскому языку. – М.: Экзамен, 2007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онтрольно-измерительные материалы. Русский язык: 7 класс/ Сост.Н.В.Егорова. – М.: ВАКО, 201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school-collection.edu.ru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elenaranko.ucoz.ru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i55.carguru.ru/37/14/41437/8/1136808/6.p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9903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ть понятие о деепричасти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знакомить  с глагольными и наречными признаками деепричастий; со значением деепричастий, способами их слово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дачи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рабатывать умение  находить деепричастия в тексте и предложени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ить особенности употребления деепричасти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мировать орфографические умения и навык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Орфографическая</a:t>
            </a:r>
            <a:r>
              <a:rPr b="1" lang="ru-RU" sz="3200" spc="-1" strike="noStrike">
                <a:solidFill>
                  <a:srgbClr val="c0504d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1426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Запишите слова, вставляя пропущенны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уквы. Укажите части реч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..сающие гирлянды, отр..жающий наступление, пр..сутствовавшие на собрании, пр..ехавший тро(л, лл)ейбус, вышедший на те(р, рр)асу, пр..одолевая труд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633960" y="4724280"/>
            <a:ext cx="6307200" cy="58140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еодолевая – дее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Понятие  о деепричасти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228240" y="9140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равните предложен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Назовите основы предложен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В каком предложении выделенные слова обозначают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равноправные действия,  а в каком –  неравноправные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одно основное, а другое добавочно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685800" y="2819520"/>
            <a:ext cx="7620120" cy="192276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Лунные тени постепенно </a:t>
            </a:r>
            <a:r>
              <a:rPr b="1" i="1" lang="ru-RU" sz="2400" spc="-1" strike="noStrike">
                <a:solidFill>
                  <a:srgbClr val="0000ff"/>
                </a:solidFill>
                <a:latin typeface="Verdana"/>
              </a:rPr>
              <a:t>терял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голубой свет и бесследно </a:t>
            </a:r>
            <a:r>
              <a:rPr b="1" i="1" lang="ru-RU" sz="2400" spc="-1" strike="noStrike">
                <a:solidFill>
                  <a:srgbClr val="0000ff"/>
                </a:solidFill>
                <a:latin typeface="Verdana"/>
              </a:rPr>
              <a:t>таял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Лунные тени, постепенно </a:t>
            </a:r>
            <a:r>
              <a:rPr b="1" i="1" lang="ru-RU" sz="2400" spc="-1" strike="noStrike">
                <a:solidFill>
                  <a:srgbClr val="0000ff"/>
                </a:solidFill>
                <a:latin typeface="Verdana"/>
              </a:rPr>
              <a:t>теряя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голубой свет, бесследно </a:t>
            </a:r>
            <a:r>
              <a:rPr b="1" i="1" lang="ru-RU" sz="2400" spc="-1" strike="noStrike">
                <a:solidFill>
                  <a:srgbClr val="0000ff"/>
                </a:solidFill>
                <a:latin typeface="Verdana"/>
              </a:rPr>
              <a:t>таял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04920" y="53341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files.school-collection.edu.ru/dlrstore/631858aa-db12-4b13-9f51-cda5f7f0c1bc/%5BRUS7_141%5D_%5BTD_350%5D.ht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0" name="Picture 5" descr="http://www.universite.ru/material/works/filolog/gvoz/foto.jpg"/>
          <p:cNvPicPr/>
          <p:nvPr/>
        </p:nvPicPr>
        <p:blipFill>
          <a:blip r:embed="rId1"/>
          <a:stretch/>
        </p:blipFill>
        <p:spPr>
          <a:xfrm>
            <a:off x="914400" y="1676520"/>
            <a:ext cx="2286000" cy="316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1" name="Прямоугольник 4"/>
          <p:cNvSpPr/>
          <p:nvPr/>
        </p:nvSpPr>
        <p:spPr>
          <a:xfrm>
            <a:off x="3867840" y="1981080"/>
            <a:ext cx="413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984807"/>
                </a:solidFill>
                <a:latin typeface="Verdana"/>
              </a:rPr>
              <a:t>Гвозд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Verdana"/>
              </a:rPr>
              <a:t>Александр Никола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5"/>
          <p:cNvSpPr/>
          <p:nvPr/>
        </p:nvSpPr>
        <p:spPr>
          <a:xfrm>
            <a:off x="3886200" y="3276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Ученый-лингви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член-корреспонден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АПН РСФ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Лингвисты о деепричас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9"/>
          <p:cNvSpPr/>
          <p:nvPr/>
        </p:nvSpPr>
        <p:spPr>
          <a:xfrm>
            <a:off x="1292040" y="50292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Verdana"/>
              </a:rPr>
              <a:t>1892 - 19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равни предложен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939240" y="2057400"/>
            <a:ext cx="7768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очка распушила хвост и прыгала по вет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очка,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спуши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вост, прыгала по ветка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очка распушила хвост,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ыга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т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609480" y="1447920"/>
            <a:ext cx="8001000" cy="350604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еепричастие, обозначая добавочное действие,  в первую очередь используется для того, чтобы одно из действий отодвинуть на второй план по сравнению с 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2895840" y="16765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вноправн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7"/>
          <p:cNvSpPr/>
          <p:nvPr/>
        </p:nvSpPr>
        <p:spPr>
          <a:xfrm>
            <a:off x="5257800" y="259092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2515320" y="25909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бавоч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2514600" y="34290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0"/>
          <p:cNvSpPr/>
          <p:nvPr/>
        </p:nvSpPr>
        <p:spPr>
          <a:xfrm>
            <a:off x="5029920" y="342900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бавоч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Verdana"/>
              </a:rPr>
              <a:t>Образование деепричаст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37720" y="1371600"/>
            <a:ext cx="7620120" cy="99072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еепричастия образуются от глаголов с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омощью суффикс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267080" y="236232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ич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а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, гляд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ыскочи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замахну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вши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спёк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616840" y="2971800"/>
            <a:ext cx="116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-а (-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-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-в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-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Общее знач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43000" y="1828440"/>
            <a:ext cx="1905120" cy="68580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Глагол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61760" y="4114800"/>
            <a:ext cx="2895480" cy="457200"/>
          </a:xfrm>
          <a:prstGeom prst="rect">
            <a:avLst/>
          </a:prstGeom>
          <a:solidFill>
            <a:srgbClr val="e3e0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Деепричастие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4573440" y="18288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ое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4345560" y="30481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бавочное 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300920" y="3886200"/>
            <a:ext cx="48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носится к тому же сл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и основное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497480" y="525780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дел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сдела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1"/>
          <p:cNvSpPr/>
          <p:nvPr/>
        </p:nvSpPr>
        <p:spPr>
          <a:xfrm>
            <a:off x="3048120" y="2133720"/>
            <a:ext cx="1523880" cy="0"/>
          </a:xfrm>
          <a:prstGeom prst="line">
            <a:avLst/>
          </a:prstGeom>
          <a:ln w="54000">
            <a:solidFill>
              <a:srgbClr val="00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3657600" y="4343400"/>
            <a:ext cx="762120" cy="0"/>
          </a:xfrm>
          <a:prstGeom prst="line">
            <a:avLst/>
          </a:prstGeom>
          <a:ln w="54000">
            <a:solidFill>
              <a:srgbClr val="00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3"/>
          <p:cNvSpPr/>
          <p:nvPr/>
        </p:nvSpPr>
        <p:spPr>
          <a:xfrm flipV="1">
            <a:off x="3657600" y="3504960"/>
            <a:ext cx="762120" cy="609480"/>
          </a:xfrm>
          <a:prstGeom prst="line">
            <a:avLst/>
          </a:prstGeom>
          <a:ln w="54000">
            <a:solidFill>
              <a:srgbClr val="00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4"/>
          <p:cNvSpPr/>
          <p:nvPr/>
        </p:nvSpPr>
        <p:spPr>
          <a:xfrm>
            <a:off x="3657600" y="4572000"/>
            <a:ext cx="990720" cy="762120"/>
          </a:xfrm>
          <a:prstGeom prst="line">
            <a:avLst/>
          </a:prstGeom>
          <a:ln w="54000">
            <a:solidFill>
              <a:srgbClr val="00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http://files.school-collection.edu.ru/dlrstore/f63e344d-2a69-438f-b171-174b57de9753/%5BRUS7_141%5D_%5BIA_353%5D.swf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Значение деепричаст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</cp:lastModifiedBy>
  <dcterms:modified xsi:type="dcterms:W3CDTF">2013-10-15T17:36:16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