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2B8-8224-40B2-AC11-F02B6FC8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A99-AEDB-4AD4-B862-8A0DAD07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1F0-3D7C-4003-B47A-25DF8EBC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5D9-173F-4869-9906-71910BB0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9EE1-3DD7-4954-8BEE-1ECB1347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081B-2C43-48ED-9F70-5AF94DB5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41C3-EA91-4F1D-A165-46F55253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4E93-5765-4E56-971F-445B547B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5731-73C9-48D1-B038-5C7B900A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8D0A-AC93-406F-8E58-CB3263DA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8F8C-6315-4213-89D3-775FF3F5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3144-6026-4695-821E-B5B49096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0632-E6F6-412A-B513-D5D000C8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C08D-C83A-4763-A031-25117184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E237-5C4E-4B19-9673-E510B06B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81BE-F03F-42BB-A139-31891DA1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38BC-0BC4-4680-AF25-D5681FA6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767-AF51-4759-9D07-8EE5714E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A55-9E71-47EF-880A-C6975B9C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039-4EAA-46E0-AD57-8FD9687D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0018-E32A-4082-BA98-57085C41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8FC-1F3B-4B6A-84B6-73AF1D1C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013-08C1-444D-ABB9-DA489C1C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F79-3982-48DF-9C7F-77D15DE2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D16B-9D70-4E7C-888C-C15A6CF32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C86E-F8FB-4D15-AA68-BE071DD66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7"/>
          <p:cNvSpPr/>
          <p:nvPr/>
        </p:nvSpPr>
        <p:spPr>
          <a:xfrm>
            <a:off x="1533600" y="2444760"/>
            <a:ext cx="3543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8"/>
          <p:cNvSpPr/>
          <p:nvPr/>
        </p:nvSpPr>
        <p:spPr>
          <a:xfrm>
            <a:off x="1540800" y="2398680"/>
            <a:ext cx="12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51"/>
          <p:cNvSpPr/>
          <p:nvPr/>
        </p:nvSpPr>
        <p:spPr>
          <a:xfrm>
            <a:off x="2998800" y="232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88"/>
          <p:cNvSpPr/>
          <p:nvPr/>
        </p:nvSpPr>
        <p:spPr>
          <a:xfrm>
            <a:off x="0" y="50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39"/>
          <p:cNvSpPr/>
          <p:nvPr/>
        </p:nvSpPr>
        <p:spPr>
          <a:xfrm>
            <a:off x="2998800" y="232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76"/>
          <p:cNvSpPr/>
          <p:nvPr/>
        </p:nvSpPr>
        <p:spPr>
          <a:xfrm>
            <a:off x="0" y="50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260280"/>
          <a:ext cx="8569080" cy="6193080"/>
        </p:xfrm>
        <a:graphic>
          <a:graphicData uri="http://schemas.openxmlformats.org/drawingml/2006/table">
            <a:tbl>
              <a:tblPr/>
              <a:tblGrid>
                <a:gridCol w="2011320"/>
                <a:gridCol w="2095560"/>
                <a:gridCol w="2128680"/>
                <a:gridCol w="2333520"/>
              </a:tblGrid>
              <a:tr h="422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Ы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  ТВОРЧЕСТВА (СТИ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ТВОРЧЕСТ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14400" y="49417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тория любви Николая Гумилева и Анны Ахматовой нашла отражение в их стих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Рисунок 5" descr="Рисунок7.png"/>
          <p:cNvPicPr/>
          <p:nvPr/>
        </p:nvPicPr>
        <p:blipFill>
          <a:blip r:embed="rId1"/>
          <a:stretch/>
        </p:blipFill>
        <p:spPr>
          <a:xfrm>
            <a:off x="1143000" y="785880"/>
            <a:ext cx="66438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51280" y="1557360"/>
            <a:ext cx="5292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Вечер» - первый сборник стихотворений (1912 г.). Основная тема- любовная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Сжала руки под темной вуалью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Ночь моя – бред о тебе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Сероглазый корол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i?id=3683622&amp;tov=2"/>
          <p:cNvPicPr/>
          <p:nvPr/>
        </p:nvPicPr>
        <p:blipFill>
          <a:blip r:embed="rId1"/>
          <a:stretch/>
        </p:blipFill>
        <p:spPr>
          <a:xfrm>
            <a:off x="179280" y="1484280"/>
            <a:ext cx="352260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140000" y="1341360"/>
            <a:ext cx="500364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торая книга «Четки» (1914 г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хматова заняла свое место на поэтическом Олимп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Последний раз мы встретились тогда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Темнеет дорога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Хочешь знать, как все это было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Уединени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1" descr="i?id=16762837&amp;tov=3"/>
          <p:cNvPicPr/>
          <p:nvPr/>
        </p:nvPicPr>
        <p:blipFill>
          <a:blip r:embed="rId1"/>
          <a:stretch/>
        </p:blipFill>
        <p:spPr>
          <a:xfrm>
            <a:off x="250920" y="1268280"/>
            <a:ext cx="38145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496728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тий сборник А.Ахматовой- «Белая стая» (191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«Мне голос был…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«Не с теми я, кто бросил землю…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5508720" y="1700280"/>
            <a:ext cx="31399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военные и революционные годы А.Ахматова выпустила 3 книг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«Белая стая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«Подорожник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«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no Domini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43927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19564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799560" cy="69804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7"/>
          <p:cNvSpPr/>
          <p:nvPr/>
        </p:nvSpPr>
        <p:spPr>
          <a:xfrm>
            <a:off x="179280" y="1341360"/>
            <a:ext cx="8964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И если я умру, то кто ж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Мои стихи напишет ва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Кто стать звенящими поможе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Еще несказанным словам…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6"/>
          <p:cNvSpPr/>
          <p:nvPr/>
        </p:nvSpPr>
        <p:spPr>
          <a:xfrm>
            <a:off x="3924360" y="1341360"/>
            <a:ext cx="5219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 Великой Отечественной войне у А. Ахматовой есть цикл «Ветер войны», где воспета любовь к Родине, которую она пронесла через всю жиз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«Мужество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Кля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«Побед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Рисунок 3" descr="ЗАМЕНА_.png"/>
          <p:cNvPicPr/>
          <p:nvPr/>
        </p:nvPicPr>
        <p:blipFill>
          <a:blip r:embed="rId1"/>
          <a:stretch/>
        </p:blipFill>
        <p:spPr>
          <a:xfrm>
            <a:off x="357120" y="969840"/>
            <a:ext cx="3429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4464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179280" y="450864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вгуст 1946 г. Постановление ЦК партии об исключении А. Ахматовой из Союза советских писател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108000" y="1557360"/>
            <a:ext cx="4608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Надо, чтоб душа окаменел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Надо снова научиться жит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Содержимое 6" descr="ЗАМЕНА_2.png"/>
          <p:cNvPicPr/>
          <p:nvPr/>
        </p:nvPicPr>
        <p:blipFill>
          <a:blip r:embed="rId1"/>
          <a:stretch/>
        </p:blipFill>
        <p:spPr>
          <a:xfrm>
            <a:off x="4857840" y="917640"/>
            <a:ext cx="39290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7"/>
          <p:cNvSpPr/>
          <p:nvPr/>
        </p:nvSpPr>
        <p:spPr>
          <a:xfrm>
            <a:off x="2340000" y="76500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оэма «Реквием». Впервые опубликована лишь в 1989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324000" y="2276640"/>
            <a:ext cx="8497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было, когда улыбал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лько мертвый, спокойствию ра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ненужным привеском болтал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ле тюрем своих Ленингра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635280" cy="4319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4356000" y="1341360"/>
            <a:ext cx="403236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чередная волна славы пришла к А.Ахматовой после смерти Стал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964г.- одна из крупнейших премий Италии «Этна Таоримина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965г. – присвоено почетное звание доктора Оксфордским университетом в Англ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же году выходит однотомник «Бег времени» - итог ее жизни, творче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341000"/>
            <a:ext cx="845820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5050"/>
                </a:solidFill>
                <a:latin typeface="Times New Roman"/>
              </a:rPr>
              <a:t>«О Муза плача, прекраснейшая из муз!»</a:t>
            </a:r>
            <a:br>
              <a:rPr sz="4800"/>
            </a:br>
            <a:r>
              <a:rPr b="1" i="1" lang="en-US" sz="48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. Цветаева.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920" y="429264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Жизнь и творче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Анны Андреевны Ахмато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4932360" y="1197000"/>
            <a:ext cx="40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нна Андреевна Ахматова умерла в марте 1966 года. Похоронена в Ленинграде (Комарово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Рисунок 5" descr="Рисунок15.png"/>
          <p:cNvPicPr/>
          <p:nvPr/>
        </p:nvPicPr>
        <p:blipFill>
          <a:blip r:embed="rId1"/>
          <a:stretch/>
        </p:blipFill>
        <p:spPr>
          <a:xfrm>
            <a:off x="428760" y="428760"/>
            <a:ext cx="430992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i?id=22709569&amp;tov=6"/>
          <p:cNvPicPr/>
          <p:nvPr/>
        </p:nvPicPr>
        <p:blipFill>
          <a:blip r:embed="rId1"/>
          <a:stretch/>
        </p:blipFill>
        <p:spPr>
          <a:xfrm>
            <a:off x="684360" y="1413000"/>
            <a:ext cx="3600360" cy="41767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4500720" y="1484280"/>
            <a:ext cx="4464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если когда-нибудь в этой стр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двигнуть задумают памятник мн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гласье на это даю торжество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5796000" y="1197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067280" y="1484280"/>
            <a:ext cx="507672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Анна Андреевна Ахматова- общепризнанный классик мировой литературы. Издано шеститомное Собрание ее сочинени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все расставляет по своим местам, запоздало, но справедли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Я завет Твой, Господи, исполн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на зов твой радостно ответила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Рисунок 6" descr="Голубые холмы.jpg"/>
          <p:cNvPicPr/>
          <p:nvPr/>
        </p:nvPicPr>
        <p:blipFill>
          <a:blip r:embed="rId1"/>
          <a:stretch/>
        </p:blipFill>
        <p:spPr>
          <a:xfrm>
            <a:off x="214200" y="1285920"/>
            <a:ext cx="33721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95280" y="189000"/>
          <a:ext cx="8424720" cy="6400800"/>
        </p:xfrm>
        <a:graphic>
          <a:graphicData uri="http://schemas.openxmlformats.org/drawingml/2006/table">
            <a:tbl>
              <a:tblPr/>
              <a:tblGrid>
                <a:gridCol w="1327320"/>
                <a:gridCol w="2774880"/>
                <a:gridCol w="2316240"/>
                <a:gridCol w="200628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 ТВОРЧЕСТВА (стихотвор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ворчест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июня 1889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лась  под Одессой (Большой  фонта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ОВНАЯ: «Сжала  руки под тёмной  вуалью», «Ночь моя- бред о  тебе», «Сероглазый  король», «Хочешь знать, как  всё это  было?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СОФСКАЯ:«Я научилась просто, мудро  жить», «Когда я называю по привычке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ПОЭТА И ПОЭЗИИ: «Уединение», «Нам свежесть слов и  чувства простоту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РОДИНЫ. РОССИИ:  «Мне голос был…»,» Не с теми я, кто бросил  землю…», «Родина», «Мужество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езд в  Царское  Село. Царскосельская женская  гимназ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е стихотворение в 11л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7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ил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дуклеевскую гимназию в Киев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а на  юрфак высших женских  кур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ла  замуж  за Н. Гумилё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лся  сын  Ле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ая  книга «Вече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ая  книга «Чётки». Признание, известнос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7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од с Н. Гумилёвы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тий сборник «Белая ста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1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ики «Подорожник», «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no Domin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1 -1945 г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етер войн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вление ЦК партии об исключении из Союза советских писател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4-1966 г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на  славы, всеобщее призна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мия Италии « Этно- Таоримина», почётное  звание  доктора лит-ры  (Оксфордский университет, Англия) Сборник «Бег времен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6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ь. Похороны в Ленинграде (Комаров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360" y="2060640"/>
            <a:ext cx="4824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нна Андреевна Ахматова (Горенко). Родилась 11(23) июня 1889 г. под Одессой (Большой Фонтан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Рисунок 5" descr="Голубые холмы.jpg"/>
          <p:cNvPicPr/>
          <p:nvPr/>
        </p:nvPicPr>
        <p:blipFill>
          <a:blip r:embed="rId1"/>
          <a:stretch/>
        </p:blipFill>
        <p:spPr>
          <a:xfrm>
            <a:off x="5357880" y="1714680"/>
            <a:ext cx="3357360" cy="4197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6"/>
          <p:cNvSpPr/>
          <p:nvPr/>
        </p:nvSpPr>
        <p:spPr>
          <a:xfrm>
            <a:off x="5796000" y="1844640"/>
            <a:ext cx="33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826920" y="5877000"/>
            <a:ext cx="747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... мне дали имя при крещенье- Анна".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Рисунок 4" descr="ЗАМЕНА.png"/>
          <p:cNvPicPr/>
          <p:nvPr/>
        </p:nvPicPr>
        <p:blipFill>
          <a:blip r:embed="rId1"/>
          <a:stretch/>
        </p:blipFill>
        <p:spPr>
          <a:xfrm>
            <a:off x="2571840" y="1217520"/>
            <a:ext cx="350028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4643280" y="3645000"/>
            <a:ext cx="410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мья Горенко.1894 г.Мать Инна Эразмовна, у нее на коленях дочь Ирина, отец Андрей Антонович, дочери Инна и Анна, сын Андр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Рисунок 3" descr="ЗААМЕНА.png"/>
          <p:cNvPicPr/>
          <p:nvPr/>
        </p:nvPicPr>
        <p:blipFill>
          <a:blip r:embed="rId1"/>
          <a:stretch/>
        </p:blipFill>
        <p:spPr>
          <a:xfrm>
            <a:off x="571680" y="714240"/>
            <a:ext cx="3732120" cy="56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8"/>
          <p:cNvSpPr/>
          <p:nvPr/>
        </p:nvSpPr>
        <p:spPr>
          <a:xfrm>
            <a:off x="3851280" y="692280"/>
            <a:ext cx="4751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одовалым ребенком Анна была перевезена на север- в Царское Село, которое в ее жизни значило очень много. По ее признанию, она все время ощущала живое присутствие великого Пушки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826920" y="4221000"/>
            <a:ext cx="66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муглый отрок бродил по аллея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озерных бродил берег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И столетие мы леле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Еле слышный шелест шаг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Рисунок 4" descr="ЗАМЕНАА.png"/>
          <p:cNvPicPr/>
          <p:nvPr/>
        </p:nvPicPr>
        <p:blipFill>
          <a:blip r:embed="rId1"/>
          <a:stretch/>
        </p:blipFill>
        <p:spPr>
          <a:xfrm>
            <a:off x="357120" y="631800"/>
            <a:ext cx="300060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915920"/>
            <a:ext cx="489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ое стихотворение напис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11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русскую литературу вош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 псевдонимом Ахмат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фамилия баб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Рисунок 3" descr="ЗАМЕННА.png"/>
          <p:cNvPicPr/>
          <p:nvPr/>
        </p:nvPicPr>
        <p:blipFill>
          <a:blip r:embed="rId1"/>
          <a:stretch/>
        </p:blipFill>
        <p:spPr>
          <a:xfrm>
            <a:off x="4786200" y="826920"/>
            <a:ext cx="371484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8920" y="2133360"/>
            <a:ext cx="48243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907 году Анна Ахматова окончила Фундуклеевскую гимназию в Киеве. Затем поступила на юридический факультет Высших женских курс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A_706"/>
          <p:cNvPicPr/>
          <p:nvPr/>
        </p:nvPicPr>
        <p:blipFill>
          <a:blip r:embed="rId1"/>
          <a:stretch/>
        </p:blipFill>
        <p:spPr>
          <a:xfrm>
            <a:off x="5076720" y="1197000"/>
            <a:ext cx="3743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9"/>
          <p:cNvSpPr/>
          <p:nvPr/>
        </p:nvSpPr>
        <p:spPr>
          <a:xfrm>
            <a:off x="395280" y="5445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1910 году А.Ахматова вышла замуж за Н.Гумилева. В 1912 году у них родился сын Лев… Спустя 7 лет они разошлис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Рисунок 3" descr="ЗАМЕЕНА.png"/>
          <p:cNvPicPr/>
          <p:nvPr/>
        </p:nvPicPr>
        <p:blipFill>
          <a:blip r:embed="rId1"/>
          <a:stretch/>
        </p:blipFill>
        <p:spPr>
          <a:xfrm>
            <a:off x="1143000" y="571680"/>
            <a:ext cx="635796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0:20:37Z</dcterms:created>
  <dc:creator>User</dc:creator>
  <dc:description/>
  <dc:language>en-US</dc:language>
  <cp:lastModifiedBy>teacher</cp:lastModifiedBy>
  <dcterms:modified xsi:type="dcterms:W3CDTF">2009-02-12T08:10:03Z</dcterms:modified>
  <cp:revision>12</cp:revision>
  <dc:subject/>
  <dc:title>«О Муза плача, прекраснейшая из муз!»       М. Цветаева.</dc:title>
</cp:coreProperties>
</file>