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5FFC-47A2-440D-AF73-BAECB8A3D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34E4-844E-47F1-9A15-D6851AC9B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7A27-DF79-4159-B406-40B01078A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70AD-42EE-4889-8D3D-F38576EA0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B5878-13D4-4DE9-86D1-5C17282C2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F0067-58BC-41F2-AA55-E032D28AD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98EDA-8366-4138-A545-36F737250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A2A38-ADC6-417C-AD6B-BF39684A8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FDBB9-05E4-4BE2-9D41-82F48A052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06B4C-BD7A-49C2-8377-6386F87A7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B3713-06DB-4107-9811-247B445E0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BAED-162C-4CEC-9735-6C5F1DE48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4C23A-DBEB-4179-A44B-77EEC6600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FE705-F210-4B88-8472-74A26DBC8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7CF20-D19F-4BE9-91EF-AF6C05C67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FD2BD-5C14-4F1E-ABEF-9CCAAB8D5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F5318-F668-4430-8F2F-0E0EAAB9E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1E50-4312-44CB-9473-5E2069CFF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2832-3614-4FB7-8189-F94FDA1C5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8875-2970-4988-B793-55E8BD3BA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8038-AC93-4AC0-A114-886648816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EF00-38FC-43C6-9319-759477D92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67B4-B946-48D0-BEAE-31FAD6457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DF95-0EEE-440A-83F5-BF68CB7E4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E593B-AAED-40EB-8794-0FBE3F4DC62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CA2DA-FB15-48AA-A66E-5465C9BE7ED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4"/>
          <p:cNvSpPr/>
          <p:nvPr/>
        </p:nvSpPr>
        <p:spPr>
          <a:xfrm>
            <a:off x="4716360" y="1052640"/>
            <a:ext cx="410364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Судьба России и поэта в лирик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А. А. Ахматово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Picture 5" descr="Ahmatova"/>
          <p:cNvPicPr/>
          <p:nvPr/>
        </p:nvPicPr>
        <p:blipFill>
          <a:blip r:embed="rId1"/>
          <a:stretch/>
        </p:blipFill>
        <p:spPr>
          <a:xfrm>
            <a:off x="324000" y="404640"/>
            <a:ext cx="424800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4"/>
          <p:cNvSpPr/>
          <p:nvPr/>
        </p:nvSpPr>
        <p:spPr>
          <a:xfrm>
            <a:off x="539640" y="836640"/>
            <a:ext cx="59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Picture 5" descr="picture"/>
          <p:cNvPicPr/>
          <p:nvPr/>
        </p:nvPicPr>
        <p:blipFill>
          <a:blip r:embed="rId1"/>
          <a:stretch/>
        </p:blipFill>
        <p:spPr>
          <a:xfrm>
            <a:off x="324000" y="765000"/>
            <a:ext cx="3600360" cy="446436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sp>
        <p:nvSpPr>
          <p:cNvPr id="243" name="Text Box 6"/>
          <p:cNvSpPr/>
          <p:nvPr/>
        </p:nvSpPr>
        <p:spPr>
          <a:xfrm>
            <a:off x="3851280" y="549360"/>
            <a:ext cx="4753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7"/>
          <p:cNvSpPr/>
          <p:nvPr/>
        </p:nvSpPr>
        <p:spPr>
          <a:xfrm>
            <a:off x="4067280" y="765000"/>
            <a:ext cx="475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Text Box 8"/>
          <p:cNvSpPr/>
          <p:nvPr/>
        </p:nvSpPr>
        <p:spPr>
          <a:xfrm>
            <a:off x="4282920" y="981000"/>
            <a:ext cx="439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 Box 9"/>
          <p:cNvSpPr/>
          <p:nvPr/>
        </p:nvSpPr>
        <p:spPr>
          <a:xfrm>
            <a:off x="4140360" y="981000"/>
            <a:ext cx="4608360" cy="572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ВОДИЛИ ТЕБЯ НА РАССВЕТЕ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А ТОБОЙ, КАК НА ВЫНОСЕ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ШЛ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ТЕМНОЙ ГОРНИЦЕ ПЛАКАЛИ ДЕТИ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 БОЖНИЦЫ СВЕЧА ОПЛЫЛ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 ГУБАХ ТВОИХ ХОЛОД ИКОНКИ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МЕРТНЫЙ ПОТ НА ЧЕЛЕ… НЕ ЗАБЫТЬ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УДУ Я КАК СТРЕЛЕЦКИЕ ЖЕНКИ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Д КРЕМЛЕВСКИМИ БАШНЯМИ ВЫТ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0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5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7" descr="20"/>
          <p:cNvPicPr/>
          <p:nvPr/>
        </p:nvPicPr>
        <p:blipFill>
          <a:blip r:embed="rId1"/>
          <a:stretch/>
        </p:blipFill>
        <p:spPr>
          <a:xfrm>
            <a:off x="324000" y="260280"/>
            <a:ext cx="3311280" cy="410544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8"/>
          <p:cNvSpPr/>
          <p:nvPr/>
        </p:nvSpPr>
        <p:spPr>
          <a:xfrm>
            <a:off x="4427640" y="549360"/>
            <a:ext cx="439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Великая Отечественная вой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Блокадный Ленингра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Box 9"/>
          <p:cNvSpPr/>
          <p:nvPr/>
        </p:nvSpPr>
        <p:spPr>
          <a:xfrm>
            <a:off x="4356000" y="1413000"/>
            <a:ext cx="4319640" cy="52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ужеств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ы знаем, что ныне лежит на веса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 что совершается нын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ас мужества пробил на наших часах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 мужество нас не покине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е страшно под пулями мёртвыми лечь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е горько остаться без крова, –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 мы сохраним тебя, русская речь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еликое русское слов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вободным и чистым тебя пронесём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 внукам дадим, и от плена спасё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веки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Text Box 10"/>
          <p:cNvSpPr/>
          <p:nvPr/>
        </p:nvSpPr>
        <p:spPr>
          <a:xfrm>
            <a:off x="250920" y="5084640"/>
            <a:ext cx="352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ак решается образ родины в стихотворении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4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1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5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 Box 4"/>
          <p:cNvSpPr/>
          <p:nvPr/>
        </p:nvSpPr>
        <p:spPr>
          <a:xfrm>
            <a:off x="4284720" y="1916280"/>
            <a:ext cx="4464000" cy="33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1946 год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Постановление ЦК ВКП (б) «О журналах «Звезда» и «Ленинград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А. А. Ахматова исключена из Союза писателей, лишена средств к существованию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Стихотворения не печатают с 1946 – 1956гг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2" name="Picture 5" descr="L01_06_01_06_10_p"/>
          <p:cNvPicPr/>
          <p:nvPr/>
        </p:nvPicPr>
        <p:blipFill>
          <a:blip r:embed="rId1"/>
          <a:stretch/>
        </p:blipFill>
        <p:spPr>
          <a:xfrm>
            <a:off x="395280" y="692280"/>
            <a:ext cx="36003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2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7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4"/>
          <p:cNvSpPr/>
          <p:nvPr/>
        </p:nvSpPr>
        <p:spPr>
          <a:xfrm>
            <a:off x="4932360" y="1197000"/>
            <a:ext cx="3816360" cy="42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Призна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Вручение  Международной  премии «Этна – Таормина» (1964 г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Присуждение степени почётного доктора Оксфордского университета (1965 г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4" name="Picture 5" descr="picture"/>
          <p:cNvPicPr/>
          <p:nvPr/>
        </p:nvPicPr>
        <p:blipFill>
          <a:blip r:embed="rId1"/>
          <a:stretch/>
        </p:blipFill>
        <p:spPr>
          <a:xfrm>
            <a:off x="324000" y="765000"/>
            <a:ext cx="4248000" cy="367200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sp>
        <p:nvSpPr>
          <p:cNvPr id="255" name="Text Box 7"/>
          <p:cNvSpPr/>
          <p:nvPr/>
        </p:nvSpPr>
        <p:spPr>
          <a:xfrm>
            <a:off x="395280" y="4797360"/>
            <a:ext cx="417672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Церем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ния вручения Анне Ахматовой международной литературной премии.1964 г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4" descr="L01_06_01_06_11_p"/>
          <p:cNvPicPr/>
          <p:nvPr/>
        </p:nvPicPr>
        <p:blipFill>
          <a:blip r:embed="rId1"/>
          <a:stretch/>
        </p:blipFill>
        <p:spPr>
          <a:xfrm>
            <a:off x="250920" y="333360"/>
            <a:ext cx="4465440" cy="4390920"/>
          </a:xfrm>
          <a:prstGeom prst="rect">
            <a:avLst/>
          </a:prstGeom>
          <a:ln w="0">
            <a:noFill/>
          </a:ln>
        </p:spPr>
      </p:pic>
      <p:sp>
        <p:nvSpPr>
          <p:cNvPr id="257" name="Text Box 5"/>
          <p:cNvSpPr/>
          <p:nvPr/>
        </p:nvSpPr>
        <p:spPr>
          <a:xfrm>
            <a:off x="5003640" y="1341360"/>
            <a:ext cx="3889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5 марта 1966 год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А. А. Ахматовой не стал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Text Box 6"/>
          <p:cNvSpPr/>
          <p:nvPr/>
        </p:nvSpPr>
        <p:spPr>
          <a:xfrm>
            <a:off x="395280" y="5300640"/>
            <a:ext cx="64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Комарово. Могила А. А. Ахматово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 Box 4"/>
          <p:cNvSpPr/>
          <p:nvPr/>
        </p:nvSpPr>
        <p:spPr>
          <a:xfrm>
            <a:off x="684360" y="333360"/>
            <a:ext cx="727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ecff"/>
                </a:solidFill>
                <a:latin typeface="Verdana"/>
              </a:rPr>
              <a:t>ОНА БЫЛА – ПОЭТОМ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Text Box 5"/>
          <p:cNvSpPr/>
          <p:nvPr/>
        </p:nvSpPr>
        <p:spPr>
          <a:xfrm>
            <a:off x="755640" y="1484280"/>
            <a:ext cx="7848720" cy="38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Я НЕ ПЕРЕСТАВАЛА ПИСАТЬ СТИХИ. ДЛЯ МЕНЯ В НИХ – СВЯЗЬ МОЯ С ВРЕМЕНЕМ, С НОВОЙ ЖИЗНЬЮ МОЕГО НАРОДА. КОГДА Я ПИСАЛА ИХ, Я ЖИЛА ТЕМИ РИТМАМИ, КОТОРЫЕ ЗВУЧАЛИ В ГЕРОИЧЕСКОЙ ИСТОРИИ МОЕЙ СТРАНЫ. Я СЧАСТЛИВА, ЧТО ЖИЛА В ЭТИ ГОДЫ И ВИДЕЛА СОБЫТИЯ, КОТОРЫМ НЕ БЫЛО РАВНЫ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3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7" descr="picture"/>
          <p:cNvPicPr/>
          <p:nvPr/>
        </p:nvPicPr>
        <p:blipFill>
          <a:blip r:embed="rId1"/>
          <a:stretch/>
        </p:blipFill>
        <p:spPr>
          <a:xfrm>
            <a:off x="1332000" y="1773360"/>
            <a:ext cx="6335640" cy="410364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sp>
        <p:nvSpPr>
          <p:cNvPr id="214" name="Text Box 8"/>
          <p:cNvSpPr/>
          <p:nvPr/>
        </p:nvSpPr>
        <p:spPr>
          <a:xfrm>
            <a:off x="1619280" y="6165720"/>
            <a:ext cx="58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иколай Степанович Гумилёв и Анна Андреевна Ахматова с сыном Льво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Text Box 9"/>
          <p:cNvSpPr/>
          <p:nvPr/>
        </p:nvSpPr>
        <p:spPr>
          <a:xfrm>
            <a:off x="1187280" y="260280"/>
            <a:ext cx="7056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азалось бы, в жизни Ахматовой всё складывалось великолепно: брак с любимым человеком, признание. Рождение сына. Но трагическая эпоха коснулась жизни каждого человек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4"/>
          <p:cNvSpPr/>
          <p:nvPr/>
        </p:nvSpPr>
        <p:spPr>
          <a:xfrm>
            <a:off x="4788000" y="2205000"/>
            <a:ext cx="3960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Кровная связь с Россией резко ощущалась в самые трудные времена, начиная с первой мировой войны.  Марина Цветаева называла   Ахматову «музой плача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Picture 5" descr="L01_06_01_06_28_p"/>
          <p:cNvPicPr/>
          <p:nvPr/>
        </p:nvPicPr>
        <p:blipFill>
          <a:blip r:embed="rId1"/>
          <a:stretch/>
        </p:blipFill>
        <p:spPr>
          <a:xfrm>
            <a:off x="755640" y="1484280"/>
            <a:ext cx="3598920" cy="439272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6"/>
          <p:cNvSpPr/>
          <p:nvPr/>
        </p:nvSpPr>
        <p:spPr>
          <a:xfrm>
            <a:off x="2411280" y="404640"/>
            <a:ext cx="46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Первая мировая вой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4"/>
          <p:cNvSpPr/>
          <p:nvPr/>
        </p:nvSpPr>
        <p:spPr>
          <a:xfrm>
            <a:off x="539640" y="981000"/>
            <a:ext cx="7096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ext Box 5"/>
          <p:cNvSpPr/>
          <p:nvPr/>
        </p:nvSpPr>
        <p:spPr>
          <a:xfrm>
            <a:off x="735120" y="1268280"/>
            <a:ext cx="750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6"/>
          <p:cNvSpPr/>
          <p:nvPr/>
        </p:nvSpPr>
        <p:spPr>
          <a:xfrm>
            <a:off x="5272200" y="476280"/>
            <a:ext cx="318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олит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 Box 7"/>
          <p:cNvSpPr/>
          <p:nvPr/>
        </p:nvSpPr>
        <p:spPr>
          <a:xfrm>
            <a:off x="4643280" y="1341360"/>
            <a:ext cx="4176720" cy="47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ай мне горькие годы недуга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адыханья, бессонницу, жар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тыми и ребёнка, и друга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 таинственный песенный дар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ак молюсь за Твоей литурги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сле стольких томительных дней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Чтобы туча над тёмной Росси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тала облаком в славе луч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915          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Picture 11" descr="picture"/>
          <p:cNvPicPr/>
          <p:nvPr/>
        </p:nvPicPr>
        <p:blipFill>
          <a:blip r:embed="rId1"/>
          <a:stretch/>
        </p:blipFill>
        <p:spPr>
          <a:xfrm>
            <a:off x="250920" y="620640"/>
            <a:ext cx="4105080" cy="532944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4"/>
          <p:cNvSpPr/>
          <p:nvPr/>
        </p:nvSpPr>
        <p:spPr>
          <a:xfrm>
            <a:off x="5219640" y="76500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олит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5"/>
          <p:cNvSpPr/>
          <p:nvPr/>
        </p:nvSpPr>
        <p:spPr>
          <a:xfrm>
            <a:off x="3886200" y="1916280"/>
            <a:ext cx="47894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 кому обращено стихотворение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кую жертву она готова принести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 имя чего приносится эта жертва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6"/>
          <p:cNvSpPr/>
          <p:nvPr/>
        </p:nvSpPr>
        <p:spPr>
          <a:xfrm>
            <a:off x="4514760" y="4653000"/>
            <a:ext cx="4017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«Как вы могли написать: разве вы не знаете, что в стихах всё сбывается?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. Цветае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Picture 7" descr="picture"/>
          <p:cNvPicPr/>
          <p:nvPr/>
        </p:nvPicPr>
        <p:blipFill>
          <a:blip r:embed="rId1"/>
          <a:stretch/>
        </p:blipFill>
        <p:spPr>
          <a:xfrm>
            <a:off x="611280" y="1125360"/>
            <a:ext cx="2881080" cy="401832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2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7" dur="10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2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7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4"/>
          <p:cNvSpPr/>
          <p:nvPr/>
        </p:nvSpPr>
        <p:spPr>
          <a:xfrm>
            <a:off x="1476360" y="260280"/>
            <a:ext cx="669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Революция и гражданская вой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Picture 5" descr="picture"/>
          <p:cNvPicPr/>
          <p:nvPr/>
        </p:nvPicPr>
        <p:blipFill>
          <a:blip r:embed="rId1"/>
          <a:stretch/>
        </p:blipFill>
        <p:spPr>
          <a:xfrm>
            <a:off x="324000" y="981000"/>
            <a:ext cx="3240000" cy="460872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sp>
        <p:nvSpPr>
          <p:cNvPr id="230" name="Text Box 6"/>
          <p:cNvSpPr/>
          <p:nvPr/>
        </p:nvSpPr>
        <p:spPr>
          <a:xfrm>
            <a:off x="3780000" y="2349360"/>
            <a:ext cx="4895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Ахматова не приняла революцию. Но для неё не было выбора – уехать из России или оставаться. Она считала бегство предательство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4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4"/>
          <p:cNvSpPr/>
          <p:nvPr/>
        </p:nvSpPr>
        <p:spPr>
          <a:xfrm>
            <a:off x="2268360" y="476280"/>
            <a:ext cx="4824720" cy="62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не голос был. Он звал утешно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н говорил: «Иди сюда»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ставь свой край глухой и грешный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ставь Россию навсегд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Я кровь от рук твоих отмою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з сердца выну  чёрный стыд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Я новым именем покрою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оль поражений и обид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о равнодушно и спокойн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уками я замкнула слух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тоб этой речью недостойно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е осквернился скорбный дух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 Box 5"/>
          <p:cNvSpPr/>
          <p:nvPr/>
        </p:nvSpPr>
        <p:spPr>
          <a:xfrm>
            <a:off x="6588000" y="6165720"/>
            <a:ext cx="13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91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5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4"/>
          <p:cNvSpPr/>
          <p:nvPr/>
        </p:nvSpPr>
        <p:spPr>
          <a:xfrm>
            <a:off x="395280" y="476280"/>
            <a:ext cx="8497800" cy="45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309920"/>
                <a:tab algn="l" pos="4397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е с теми я, кто  бросил  землю                А здесь, в глухом чаду пожар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309920"/>
                <a:tab algn="l" pos="4397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 растерзание врагам.                            Остаток юности губя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309920"/>
                <a:tab algn="l" pos="4397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х грубой лести я не внемлю,                  Мы ни единого удар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309920"/>
                <a:tab algn="l" pos="4397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м песен я своих не дам.                          Не отклонили от себя.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309920"/>
                <a:tab algn="l" pos="4397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309920"/>
                <a:tab algn="l" pos="4397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о вечно жалок мне изгнанник,                И знаем, что в оценке поздн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309920"/>
                <a:tab algn="l" pos="4397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к заключённый, как больной.                Оправдан будет каждый час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309920"/>
                <a:tab algn="l" pos="4397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емна твоя дорога, странник,                   Но в мире нет людей  бесслезней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309920"/>
                <a:tab algn="l" pos="4397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лынью пахнет хлеб чужой.                   Надменнее и проще нас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309920"/>
                <a:tab algn="l" pos="4397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309920"/>
                <a:tab algn="l" pos="4397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юль 192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Text Box 5"/>
          <p:cNvSpPr/>
          <p:nvPr/>
        </p:nvSpPr>
        <p:spPr>
          <a:xfrm>
            <a:off x="4572000" y="260280"/>
            <a:ext cx="3960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 Box 6"/>
          <p:cNvSpPr/>
          <p:nvPr/>
        </p:nvSpPr>
        <p:spPr>
          <a:xfrm>
            <a:off x="5508720" y="476280"/>
            <a:ext cx="1079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Text Box 7"/>
          <p:cNvSpPr/>
          <p:nvPr/>
        </p:nvSpPr>
        <p:spPr>
          <a:xfrm>
            <a:off x="684360" y="5445000"/>
            <a:ext cx="74167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каком стиле написано стихотворение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кие противопоставления мы видим в стихотворении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2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5"/>
          <p:cNvSpPr/>
          <p:nvPr/>
        </p:nvSpPr>
        <p:spPr>
          <a:xfrm>
            <a:off x="4211640" y="260280"/>
            <a:ext cx="4321080" cy="31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0- годы. Волна сталинских репрессий накрыла и Ахматову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рестован  и расстрелян  Н. С. Гумилёва  (1921 год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рестован сын Лев Гумилёв (1935, 1939, 1948 год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апрещают печатать стихи (1925 – 1940годы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Picture 9" descr="picture"/>
          <p:cNvPicPr/>
          <p:nvPr/>
        </p:nvPicPr>
        <p:blipFill>
          <a:blip r:embed="rId1"/>
          <a:stretch/>
        </p:blipFill>
        <p:spPr>
          <a:xfrm rot="1294200">
            <a:off x="2916000" y="3141360"/>
            <a:ext cx="3311280" cy="316692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sp>
        <p:nvSpPr>
          <p:cNvPr id="239" name="Rectangle 11"/>
          <p:cNvSpPr/>
          <p:nvPr/>
        </p:nvSpPr>
        <p:spPr>
          <a:xfrm>
            <a:off x="6227640" y="4365720"/>
            <a:ext cx="2521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Петроградская правда”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с сообщением о расстрел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Н.И. Гумилёва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" name="Picture 12" descr="picture"/>
          <p:cNvPicPr/>
          <p:nvPr/>
        </p:nvPicPr>
        <p:blipFill>
          <a:blip r:embed="rId2"/>
          <a:stretch/>
        </p:blipFill>
        <p:spPr>
          <a:xfrm rot="20738400">
            <a:off x="395280" y="333000"/>
            <a:ext cx="3097080" cy="367200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8T18:46:11Z</dcterms:created>
  <dc:creator>XXX</dc:creator>
  <dc:description/>
  <dc:language>en-US</dc:language>
  <cp:lastModifiedBy>USER</cp:lastModifiedBy>
  <dcterms:modified xsi:type="dcterms:W3CDTF">2015-12-16T14:38:50Z</dcterms:modified>
  <cp:revision>10</cp:revision>
  <dc:subject/>
  <dc:title>Слайд 1</dc:title>
</cp:coreProperties>
</file>