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27D7C-613B-432F-A644-95C7DCACB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35D98-FAF4-407A-8687-78A805B15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09799-7FF1-427E-B63A-2046E9521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22B09-ED55-4AD7-B93B-FD6BF1474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3E512-A4DB-4309-8BE6-282806A9E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A4DCB-6594-41C5-8B1E-539ADA58A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7BC5A-91F6-47FA-960B-EDE37E52F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32095-CCB5-455D-B73A-688C8FAB3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D82A3-4F94-4E50-9FA4-82139D8A8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508D7-8AB8-4989-984F-F335DF1C5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BE809-64EE-4A8B-868B-6709EDF66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4A699-C719-4C1A-88BE-F44FD6C2F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73BB3-1A3F-4B44-A6B4-2BA683A82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153-3A9F-4745-863E-59BB2C69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BE1-0853-46B6-BF08-C81C38C6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A78-BA54-41A0-A68C-48B5FF26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BA1-C3B0-49F2-9708-EDBF048F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932-B34B-461B-9B7E-C245542D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906-4AA7-4FF4-8A4B-0F1D7065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41B-BD58-4753-A160-6B38F279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26D-8C3F-4A29-A91E-FA6E3E4D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4A9-B68A-45F8-AE20-5CD91CFF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DA4-2367-45C4-9CA4-83E21319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C64-4B84-4059-BAF4-8935ABDE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13F-D40D-4781-BDA9-B5FA2CBC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575177-70B1-45CF-A50C-B45386BF7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2052720" y="1611360"/>
            <a:ext cx="604836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Задание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368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009933"/>
                </a:solidFill>
                <a:uFillTx/>
                <a:latin typeface="Arial"/>
              </a:rPr>
              <a:t>Укажите пример с ошибкой в образовании формы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 на по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ня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.Обе дев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Испеки пи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Лягте на по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Задание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368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009933"/>
                </a:solidFill>
                <a:uFillTx/>
                <a:latin typeface="Arial"/>
              </a:rPr>
              <a:t>Укажите пример с ошибкой в образовании формы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Ихня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Задание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61928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е ряд, в котором в обоих словах в приставке пропущена одна и та же буква. Выпишите эти слова, вставив пропущенную бук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.Пр..встать, пр..ми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од..брать, р..зосл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Ра..кидать, и..пу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Пр. .уныл, пр..р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0.. .бросил, на.. .п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Задание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61928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е ряд, в котором в обоих словах в приставке пропущена одна и та же буква. Выпишите эти слова, вставив пропущенную бук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Ра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дать, и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г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Задание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(2 балл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авьте знаки препинан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жите номера предложений, в которых нужно поставить ОДНУ запят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Кто-то терем прибирал да хозяев поджид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В синтаксическом строе двух поэтических текстов мы можем найти как сходства так и различ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М.В. Ломоносовым было намечено разграничение знаменательных и служебных слов и в дальнейшем это разграничение поддерживалось крупнейшими представителями русской на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Многие литературоведы и историки вновь и вновь спорят по поводу переписки Гёте с великим русским поэтом А.С. Пушки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А.С. Грин мог подробно описать как изгиб реки так и расположение домов как вековые леса так и уютные приморские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9933"/>
                </a:solidFill>
                <a:latin typeface="Arial"/>
              </a:rPr>
              <a:t>Ответ: 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сочин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ентарий к пробл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иция ав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е согласие или несогласие с позицией ав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аргумента(1- из художественной литературы, 2- знания, жизненный опы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 и самоотверже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ь солдат, уча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ов Великой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ственной войны,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а всегд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тся в нашей памяти. Но не в коем случае нельзя забывать и о вкладе мирного н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ления в историчес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ю побе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ённом отрывке Д.Н. Медведев поднимает проблему ед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ния всего общества в борьбе против фаши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х захватчиков. Помощь мирных жителей партизанскому движению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оцени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-33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жество людей помогавших партизанам в проведении одной из оп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й Великой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чественной войны особе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поражает в наше благополучное и сытое время. Действительно, если бы мирные жители не помогали партизанам, то отряды, действовавшие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оррии Украины и Белору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и, были бы, скорее всего, обречены. Крестьяне, знавшие о судьбе жителей Озерцов, не думали о себе. Они желали успеха всей операц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Люди знали, что в результате операц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дрыва их ждёт смерть, но они уверено идут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 встреч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ас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ти, отстаивая то, что им дорого: свою землю, свой мир, своих партизан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 считает, что отвага мирного населения — важнейшая составляющая Великой Победы. Он убеждён, что мужество и самоотверже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ь мирного населения: стариков, же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ыц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, п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остков - стало настоящей опорой и реальной помощью партизанскому движению во время Великой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чествен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лностью разделяю мнение автора. Война, которая пр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етает всенародный характер, — это удивительно. Народ сплоч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 в единое целое. Только об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ив все силы, можно дать отпор врагу. И война становится делом всех и кажд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03280" y="1768320"/>
          <a:ext cx="9069480" cy="6280200"/>
        </p:xfrm>
        <a:graphic>
          <a:graphicData uri="http://schemas.openxmlformats.org/drawingml/2006/table">
            <a:tbl>
              <a:tblPr/>
              <a:tblGrid>
                <a:gridCol w="2266920"/>
                <a:gridCol w="2268360"/>
                <a:gridCol w="2267280"/>
                <a:gridCol w="226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что начисляются балл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данном сочин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80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 проблемы исходного тек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ентарии к пробле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80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ии ав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ё м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80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его аргумен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6480" rIns="6480" tIns="0" bIns="0" anchor="b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овая цельность, связ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2600">
                <a:tc>
                  <a:txBody>
                    <a:bodyPr lIns="6480" rIns="6480" tIns="0" bIns="0" anchor="b">
                      <a:noAutofit/>
                    </a:bodyPr>
                    <a:p>
                      <a:pPr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чность и выразительность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ошиб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260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ф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ошиб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80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у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языковых но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80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речевых но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4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ение этических но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4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логическая точ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146160"/>
            <a:ext cx="90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2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9933"/>
                </a:solidFill>
                <a:latin typeface="Arial"/>
              </a:rPr>
              <a:t>ЕГЭ по русскому языку в 201</a:t>
            </a:r>
            <a:r>
              <a:rPr b="1" lang="ru-RU" sz="4800" spc="-1" strike="noStrike">
                <a:solidFill>
                  <a:srgbClr val="009933"/>
                </a:solidFill>
                <a:latin typeface="Arial"/>
              </a:rPr>
              <a:t>6</a:t>
            </a:r>
            <a:r>
              <a:rPr b="1" lang="en-US" sz="4800" spc="-1" strike="noStrike">
                <a:solidFill>
                  <a:srgbClr val="009933"/>
                </a:solidFill>
                <a:latin typeface="Arial"/>
              </a:rPr>
              <a:t> го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9933"/>
                </a:solidFill>
                <a:latin typeface="Arial"/>
              </a:rPr>
              <a:t>в новом форма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9933"/>
                </a:solidFill>
                <a:latin typeface="Arial"/>
              </a:rPr>
              <a:t>Часть 1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9933"/>
                </a:solidFill>
                <a:latin typeface="Arial"/>
              </a:rPr>
              <a:t>особенности струк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9933"/>
                </a:solidFill>
                <a:latin typeface="Arial"/>
              </a:rPr>
              <a:t>специфика подгот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«Чтение - это один из истоков мышления и умственного развития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052720" y="1611360"/>
            <a:ext cx="604836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же количество баллов по русскому языку является необходимым условием для получения школьного аттеста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ложно ли сдать ЕГЭ по русскому языку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нужно набрать баллов, чтобы экзамен считать успешно сда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ИМ - контрольные измерительные материалы по русскому языку. Это тот перечень заданий, который выпускник получит на ЕГЭ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Общая характеристика Части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чество заданий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ксимальный первичный балл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нт максимального первичного балла за задания Части 1 от максимального балла за всю работу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 заданий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ния с кратким от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Общая характеристика Части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сть 2 состоит из одного двадцать пятого задания, которое представляет собой небольшую письменную работу по данному исходному тексту (сочинение), где выпускник должен определить основную проблему, высказать свою точку зрения и доказать её. Сочинение должно быть объёмом от 150 до 300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Минимальный порог баллов за ЕГЭ по русскому языку на 2016 год уже установлен, он составляет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36 балл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необходимы для поступления в ВУЗ. Чтобы получить аттестат, необходимо набрать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24 бал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За верное выполнение каждого задания 1 части (кроме 1, 7, 15) выпускник получает 1балл. Задания 1,7, 15 может оценено до 5 бал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Задание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аком слове допущена ошибка в постановке ударения; неверно выделена буква, обозначающая ударный гласный зву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.Позво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ГрАжд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ДавнИш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Отобр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Задание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аком слове допущена ошибка в постановке ударения; неверно выделена буква, обозначающая ударный гласный зву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ый 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ГрАжд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>Калмыкова Людмила</dc:creator>
  <dc:description/>
  <dc:language>en-US</dc:language>
  <cp:lastModifiedBy>USER</cp:lastModifiedBy>
  <dcterms:modified xsi:type="dcterms:W3CDTF">2015-12-17T19:58:12Z</dcterms:modified>
  <cp:revision>10</cp:revision>
  <dc:subject/>
  <dc:title>Презентация PowerPoint</dc:title>
</cp:coreProperties>
</file>