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09F-20B5-4BED-B8B7-FA240F72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C33-0E74-4142-A64F-E6FB26AB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E97-384A-43C0-B232-470E0362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218-005D-4686-8F2C-0224DF64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CC78-1819-4937-972B-6881FF7B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B858-412C-4C1F-BB39-F4FA634E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1725-EC94-4145-B734-C3F2394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FF1B-D1B5-456B-AF47-B21DD1A6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1AC3-11E9-494D-992F-53BD0084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6C5C-0450-46BD-B72D-7B8519EC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F8E2-3C8A-4E33-AF6C-4958AA69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654-B68E-42D9-AA7A-6B819A5B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EB0E-E9B4-43CE-8B7E-9FA253D2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A34D-A281-4F5A-BEE9-D5293B84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96E9-36BD-4D44-AAA2-7F088066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D02C-2153-4A1F-949B-AE902C44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076A-1EF5-4A5D-9A71-694028B3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095-A8CC-476E-A1BA-DF9B340B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AF9-10B2-45F6-95F3-1B32C8C9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46A-8F55-4DB8-B198-7B1D704A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7D3-8284-4204-9063-768F006E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882-35D4-402F-9DDE-4323D453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D00-1DF4-4600-A284-BC1597E3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DA0-F259-4427-975E-AB13EE51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C42B-488D-48D2-9353-0D93F4A6AB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4932-C0D8-4299-A8A8-26BA69279E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ЕГЭ. Задание А15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OCR A Extended"/>
              </a:rPr>
              <a:t>Правописание пристав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. В каком ряду во всех трёх слова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ущена одна и та же бук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274320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.делка, не..гибаемый, и..бра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Шампин..он, п..еса, бар..е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..кладывать, на..лежит, о..мы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..видение, пр..гожий, не пр..мину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каком ряду во всех трёх слова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ущена одна и та же бук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..чуждённый, пре..сказать, о..би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..пылать, бе..крайний, во..двигну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..облачный, пре..видеть, на..куси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..противный,пр..крыть,пр..воротное зель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705720" y="59436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3 (д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каком ряду во всех трёх слова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ущена одна и та же бук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7428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..забавный,пр..вратник,пр..крас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..щедрились,бе..крайний,и..царапа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ж..нститутский, воз..меть, об..ска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вух..этажный, д..явол, ин..ек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914520" y="5665680"/>
            <a:ext cx="11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2 (с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каком ряду во всех трёх слова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ущена одна и та же бук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ез..нформация,об..ндеветь,под..тожи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ез..языкая, в..юга, об..ективн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..мьера, пр..стиж, пр..вилег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..жать, ра..жечь, ни..ринуть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291080" y="5665680"/>
            <a:ext cx="115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4 (з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В каком ряду во всех трёх слова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ущена одна и та же бук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..хождение, ра..чётный,бе..гранич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мень пр..ткновения, пр..зрительный, пр..зентабельн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порт..гра, от..скать, меж..гров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ж..ярусный, под..ячий, под..ё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В каком ряду во всех трёх слова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ущена одна и та же бук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е..лекарственный, ра..паковать, бе..бреж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..восходный, пр..вивка, без пр..кра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..скать,без..дейный,без..нвента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рв..ю, лос..он, грузопод..ём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В каком ряду во всех трёх слова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ущена одна и та же бук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ерх..нтересный,воз..меть,раз..грыва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ш..ёт, транс..европейский, медал..о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и..шедший,ра..планировать, ..гину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..бор, пр..баутка, пр..тендова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 В каком ряду во всех трёх слова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ущена одна и та же бук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274320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..вратиться,пр..творщица, пр..ручи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..скание, без..скусный, из..ма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..ян, пен..юар, с..езди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.дельщина, ..царапать, ра..бави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. В каком ряду во всех трёх слова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ущена одна и та же бук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..митивный,пр..возмочь,пр..бреж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е..грешный, ра..шуметься, ра..жа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н..европейский, об..емлет, трёх..языч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..бойный, на..строить, по..нож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3-12-01T09:35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